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0F7B-EFC0-4231-AF63-1644D84B7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FB69-E508-48B2-921B-F61F6F2C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6F91-ABEF-4BB1-BEE0-FD2E96344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4D93-B52A-428D-A8E7-7779100D0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62635-1429-4CE0-84FF-139008BA2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9A22-533C-464E-A9D9-8FD17450F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B2D2-9B12-4476-8DFF-005B2D6C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8E03-B301-47AD-8649-851AECDD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EA02-A70B-40DB-96AC-D1E85A0E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24C3-F0ED-49D8-8974-836DA3AE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CB44-F6D9-4A05-A8BD-997DEF6F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BA46-39FC-4B11-9B93-FE9CD58D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1095-D7BF-4CD0-8DC1-1B3B2ABA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53F8-2CBA-4782-8C47-9D8087EE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1D92-9D94-4FDC-86CC-C866822E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0D21-C42C-414C-AF02-E17F7E145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6456-20A9-4619-BCC1-B5CF86A57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5BC9-01C9-497F-A8F8-32B024DC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2854-EB9F-4ABF-A382-B33C7A36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E515-09B2-4BC6-92FE-922B1B7C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94CE-C57E-4B09-8A6B-B9F4CD1C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D7F7-934D-4008-96B9-CC8CA2AF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D4D6-357E-4576-8F94-DAC222ED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470A-6066-4D82-80C5-65000F9C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1133-3B8B-4056-B470-C1267726D0E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5940-FD2A-4AD5-8D85-7C29A775A82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26028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ff"/>
                </a:solidFill>
                <a:latin typeface="Tahoma"/>
              </a:rPr>
              <a:t>Der Mitarbeiter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320" y="2349360"/>
            <a:ext cx="796932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und sein 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evangelistischer 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Dienst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331560"/>
            <a:ext cx="835956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99ff"/>
                </a:solidFill>
                <a:uFillTx/>
                <a:latin typeface="Tahoma"/>
              </a:rPr>
              <a:t>Der Mensch aus Gottes Sicht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156360" y="1125360"/>
            <a:ext cx="2894040" cy="3456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4920" y="97992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er ist „nur böse den ganzen Tag“ (1Mo 6,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483200"/>
            <a:ext cx="81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er hat keine Ehrfurcht vor Gott (Röm 3,1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987560"/>
            <a:ext cx="66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er ist tot in Sünden und Übertretungen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Eph 2,1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779920"/>
            <a:ext cx="73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r versteht keine geistlichen Ding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1Kor 2,1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920" y="361332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r lebt in Rebellion gegen Got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Luk 19,14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920" y="441072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er ist ein Sklave der Sünde (Röm 6,1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920" y="4867920"/>
            <a:ext cx="83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er ist von Satan verblendet (2Kor 4,3-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0" y="537228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er ist ewig verloren vor einem heiligen Got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Joh 3,36; Offb 20,1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304920"/>
            <a:ext cx="867564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1" i="1" lang="en-US" sz="3600" spc="-1" strike="noStrike">
                <a:solidFill>
                  <a:srgbClr val="000066"/>
                </a:solidFill>
                <a:latin typeface="Tahoma"/>
              </a:rPr>
              <a:t>Wo steht mein Gesprächspartner?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4437000"/>
            <a:ext cx="36957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Tahoma"/>
              </a:rPr>
              <a:t>REI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Tahoma"/>
              </a:rPr>
              <a:t>SATANS 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448240" y="3141720"/>
            <a:ext cx="369576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REI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GOTTES 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419640" y="2781360"/>
            <a:ext cx="0" cy="9144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060640"/>
            <a:ext cx="9144000" cy="42480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51280" y="2997360"/>
            <a:ext cx="0" cy="9144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11360" y="2781360"/>
            <a:ext cx="439920" cy="2160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16000" y="189792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„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Ich bin die Tür …“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(Joh 10,9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64072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66ff"/>
                </a:solidFill>
                <a:latin typeface="Tahoma"/>
              </a:rPr>
              <a:t>    </a:t>
            </a:r>
            <a:r>
              <a:rPr b="1" i="1" lang="en-US" sz="4800" spc="-1" strike="noStrike" u="sng">
                <a:solidFill>
                  <a:srgbClr val="0066ff"/>
                </a:solidFill>
                <a:uFillTx/>
                <a:latin typeface="Tahoma"/>
              </a:rPr>
              <a:t>Die Kennedy-Fragen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762440" cy="5373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Haben Sie schon di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Gewissheit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erlangt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ass Sie in d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Himmel kom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würden, wenn Si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heute noch sterb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üsst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7280" y="1483920"/>
            <a:ext cx="4716360" cy="5373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ngenommen, Si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müssten heute no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terben, und Gott wür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ie fragen: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„War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soll ich dich in d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Himmel lassen?“</a:t>
            </a: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Was würden Sie ih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arauf antworten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3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500"/>
                            </p:stCondLst>
                            <p:childTnLst>
                              <p:par>
                                <p:cTn id="3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9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3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500"/>
                            </p:stCondLst>
                            <p:childTnLst>
                              <p:par>
                                <p:cTn id="4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7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0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4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8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500"/>
                            </p:stCondLst>
                            <p:childTnLst>
                              <p:par>
                                <p:cTn id="43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2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3000"/>
                            </p:stCondLst>
                            <p:childTnLst>
                              <p:par>
                                <p:cTn id="4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6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500"/>
                            </p:stCondLst>
                            <p:childTnLst>
                              <p:par>
                                <p:cTn id="4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0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4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0560" y="33336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ff"/>
                </a:solidFill>
                <a:uFillTx/>
                <a:latin typeface="Tahoma"/>
              </a:rPr>
              <a:t>Mögliche Antworte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89080" y="1413000"/>
            <a:ext cx="38512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eil ich getauft b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4716360" y="138204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e Taufe rettet nicht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2080" y="2028960"/>
            <a:ext cx="416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eil ich zu der oder d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Kirche gehö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681440" y="2077200"/>
            <a:ext cx="50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e Kirche rettet nicht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6000" y="3067200"/>
            <a:ext cx="43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eil ich mich immer bemüh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habe, christlich zu leb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40360" y="301248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e GNADE rettet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6000" y="4111560"/>
            <a:ext cx="37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ch habe nichts falsch gema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43280" y="4066920"/>
            <a:ext cx="410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s gibt keinen gerechten Menschen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-270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99ff"/>
                </a:solidFill>
                <a:uFillTx/>
                <a:latin typeface="Tahoma"/>
              </a:rPr>
              <a:t>„</a:t>
            </a:r>
            <a:r>
              <a:rPr b="1" lang="en-US" sz="4400" spc="-1" strike="noStrike" u="sng">
                <a:solidFill>
                  <a:srgbClr val="ff99ff"/>
                </a:solidFill>
                <a:uFillTx/>
                <a:latin typeface="Tahoma"/>
              </a:rPr>
              <a:t>Fromme“ Antworte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2720" y="1483920"/>
            <a:ext cx="4211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ch hoffe auf die Gnade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4716360" y="1412640"/>
            <a:ext cx="45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e Gnade muss man hier erfassen !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8000" y="256392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ch hoffe, dass Gott mi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ls verlorenen Sohn annimmt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691160" y="2491920"/>
            <a:ext cx="549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 muss hier in diesem Leben zu Gott umkehren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8000" y="364356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eil Christus für mi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gestorben ist!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240" y="3644640"/>
            <a:ext cx="392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ristus ist für alle gestorben !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8000" y="486792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eil ich an Jesus glaube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05560" y="4793400"/>
            <a:ext cx="288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as heißt das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280" y="-100080"/>
            <a:ext cx="8964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ff"/>
                </a:solidFill>
                <a:latin typeface="Tahoma"/>
              </a:rPr>
              <a:t>Welche Faktoren waren maßgeblich daran beteiligt, dass du Christ wurdest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ahoma"/>
              </a:rPr>
              <a:t>(  ) persönliche Notl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ahoma"/>
              </a:rPr>
              <a:t>(  ) ich geriet „zufällig“ in eine christliche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de-DE" sz="3200" spc="-1" strike="noStrike">
                <a:solidFill>
                  <a:srgbClr val="ffffff"/>
                </a:solidFill>
                <a:latin typeface="Tahoma"/>
              </a:rPr>
              <a:t>Veranstaltu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ahoma"/>
              </a:rPr>
              <a:t>(  ) eine Großevangelisation (z.B. ProChris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ahoma"/>
              </a:rPr>
              <a:t>(  ) durch das Lesen der Bib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ahoma"/>
              </a:rPr>
              <a:t>(  ) jemand besuchte mich zu Ha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ahoma"/>
              </a:rPr>
              <a:t>(  ) christliches Radio / T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ahoma"/>
              </a:rPr>
              <a:t>(  ) christliche Freizeit / Jugendarbe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ahoma"/>
              </a:rPr>
              <a:t>(  ) christliche Freunde / Verwand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8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8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8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8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8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8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8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8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8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8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8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8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8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8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8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8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8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8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8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8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8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8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8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8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8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8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8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8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8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8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8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8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8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41520" y="260280"/>
            <a:ext cx="86104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99ff"/>
                </a:solidFill>
                <a:uFillTx/>
                <a:latin typeface="Tahoma"/>
              </a:rPr>
              <a:t>Wodurch finden Menschen zum Glauben und zur Gemeinde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842840"/>
            <a:ext cx="861048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esondere Notsituation……………………………..  8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pontaner Gemeindebesuch……………………..   12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astor…………………………………………………..  22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esuchsprogramm………………………….………..   4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roßevangelisation…………………………............  5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emeinde-Programm……………………………….    4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dio / Fernsehen…………………………………   0,5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Tahoma"/>
              </a:rPr>
              <a:t>Freunde / Verwandt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…………………………….    </a:t>
            </a:r>
            <a:r>
              <a:rPr b="1" lang="en-US" sz="2400" spc="-1" strike="noStrike">
                <a:solidFill>
                  <a:srgbClr val="ff99ff"/>
                </a:solidFill>
                <a:latin typeface="Tahoma"/>
              </a:rPr>
              <a:t>76 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8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8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8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8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8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8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8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8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8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8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8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8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8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8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8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8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8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8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8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8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8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8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8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8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8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16440"/>
            <a:ext cx="91440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99ff"/>
                </a:solidFill>
                <a:uFillTx/>
                <a:latin typeface="Tahoma"/>
              </a:rPr>
              <a:t>Evangelisation durch Beziehungen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2360" y="1125000"/>
            <a:ext cx="91440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Joh 1,41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de-DE" sz="2400" spc="-1" strike="noStrike">
                <a:solidFill>
                  <a:srgbClr val="66ccff"/>
                </a:solidFill>
                <a:latin typeface="Tahoma"/>
              </a:rPr>
              <a:t>Andreas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 führt </a:t>
            </a:r>
            <a:r>
              <a:rPr b="1" lang="de-DE" sz="2400" spc="-1" strike="noStrike">
                <a:solidFill>
                  <a:srgbClr val="66ccff"/>
                </a:solidFill>
                <a:latin typeface="Tahoma"/>
              </a:rPr>
              <a:t>Petrus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 zum Glaub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Joh 1,45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de-DE" sz="2400" spc="-1" strike="noStrike">
                <a:solidFill>
                  <a:srgbClr val="66ccff"/>
                </a:solidFill>
                <a:latin typeface="Tahoma"/>
              </a:rPr>
              <a:t>Philippus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 findet seinen Freund </a:t>
            </a:r>
            <a:r>
              <a:rPr b="1" lang="de-DE" sz="2400" spc="-1" strike="noStrike">
                <a:solidFill>
                  <a:srgbClr val="66ccff"/>
                </a:solidFill>
                <a:latin typeface="Tahoma"/>
              </a:rPr>
              <a:t>Nathana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Luk 4,38f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Die </a:t>
            </a:r>
            <a:r>
              <a:rPr b="1" lang="de-DE" sz="2400" spc="-1" strike="noStrike">
                <a:solidFill>
                  <a:srgbClr val="66ccff"/>
                </a:solidFill>
                <a:latin typeface="Tahoma"/>
              </a:rPr>
              <a:t>Schwiegermutter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 und </a:t>
            </a:r>
            <a:r>
              <a:rPr b="1" lang="de-DE" sz="2400" spc="-1" strike="noStrike">
                <a:solidFill>
                  <a:srgbClr val="66ccff"/>
                </a:solidFill>
                <a:latin typeface="Tahoma"/>
              </a:rPr>
              <a:t>Frau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de-DE" sz="2400" spc="-1" strike="noStrike">
                <a:solidFill>
                  <a:srgbClr val="66ccff"/>
                </a:solidFill>
                <a:latin typeface="Tahoma"/>
              </a:rPr>
              <a:t>des Petr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1Kor 9,5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kommen zum Glaube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Mk 2,14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de-DE" sz="2400" spc="-1" strike="noStrike">
                <a:solidFill>
                  <a:srgbClr val="66ccff"/>
                </a:solidFill>
                <a:latin typeface="Tahoma"/>
              </a:rPr>
              <a:t>Levi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 lädt seine „Arbeitskollegen“ e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Mk 5,19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Der </a:t>
            </a:r>
            <a:r>
              <a:rPr b="1" lang="de-DE" sz="2400" spc="-1" strike="noStrike">
                <a:solidFill>
                  <a:srgbClr val="66ccff"/>
                </a:solidFill>
                <a:latin typeface="Tahoma"/>
              </a:rPr>
              <a:t>Gerasener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 soll in seinem Haus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verkündi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Apg 10,24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de-DE" sz="2400" spc="-1" strike="noStrike">
                <a:solidFill>
                  <a:srgbClr val="66ccff"/>
                </a:solidFill>
                <a:latin typeface="Tahoma"/>
              </a:rPr>
              <a:t>Kornelius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 plus Verwandte und Freun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Apg 16,15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de-DE" sz="2400" spc="-1" strike="noStrike">
                <a:solidFill>
                  <a:srgbClr val="66ccff"/>
                </a:solidFill>
                <a:latin typeface="Tahoma"/>
              </a:rPr>
              <a:t>Lydia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 und ihr Ha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Apg 16,30f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Der </a:t>
            </a:r>
            <a:r>
              <a:rPr b="1" lang="de-DE" sz="2400" spc="-1" strike="noStrike">
                <a:solidFill>
                  <a:srgbClr val="66ccff"/>
                </a:solidFill>
                <a:latin typeface="Tahoma"/>
              </a:rPr>
              <a:t>Gefängnisaufseher</a:t>
            </a:r>
            <a:r>
              <a:rPr b="1" lang="de-DE" sz="2400" spc="-1" strike="noStrike">
                <a:solidFill>
                  <a:srgbClr val="ffffff"/>
                </a:solidFill>
                <a:latin typeface="Tahoma"/>
              </a:rPr>
              <a:t> und sein Ha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8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3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8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3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8" dur="5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3" dur="500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44720" y="3045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ff"/>
                </a:solidFill>
                <a:latin typeface="Tahoma"/>
              </a:rPr>
              <a:t>Die Mitte des christlichen Glaubens ist der Tisch 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340000" y="2276640"/>
            <a:ext cx="4271760" cy="30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3595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ff"/>
                </a:solidFill>
                <a:latin typeface="Tahoma"/>
              </a:rPr>
              <a:t>An welchen Tischen saß der Herr Jesus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ahoma"/>
              </a:rPr>
              <a:t>am Tisch bei der </a:t>
            </a:r>
            <a:r>
              <a:rPr b="1" lang="de-DE" sz="3200" spc="-1" strike="noStrike">
                <a:solidFill>
                  <a:srgbClr val="66ccff"/>
                </a:solidFill>
                <a:latin typeface="Tahoma"/>
              </a:rPr>
              <a:t>Hochzeit zu Kana</a:t>
            </a:r>
            <a:r>
              <a:rPr b="1" lang="de-DE" sz="3200" spc="-1" strike="noStrike">
                <a:solidFill>
                  <a:srgbClr val="ffffff"/>
                </a:solidFill>
                <a:latin typeface="Tahoma"/>
              </a:rPr>
              <a:t> (Joh 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ahoma"/>
              </a:rPr>
              <a:t>am Tisch des </a:t>
            </a:r>
            <a:r>
              <a:rPr b="1" lang="de-DE" sz="3200" spc="-1" strike="noStrike">
                <a:solidFill>
                  <a:srgbClr val="66ccff"/>
                </a:solidFill>
                <a:latin typeface="Tahoma"/>
              </a:rPr>
              <a:t>Levi</a:t>
            </a:r>
            <a:r>
              <a:rPr b="1" lang="de-DE" sz="3200" spc="-1" strike="noStrike">
                <a:solidFill>
                  <a:srgbClr val="ffffff"/>
                </a:solidFill>
                <a:latin typeface="Tahoma"/>
              </a:rPr>
              <a:t> (Luk 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ahoma"/>
              </a:rPr>
              <a:t>am Tisch bei </a:t>
            </a:r>
            <a:r>
              <a:rPr b="1" lang="de-DE" sz="3200" spc="-1" strike="noStrike">
                <a:solidFill>
                  <a:srgbClr val="66ccff"/>
                </a:solidFill>
                <a:latin typeface="Tahoma"/>
              </a:rPr>
              <a:t>Martha und Maria</a:t>
            </a:r>
            <a:r>
              <a:rPr b="1" lang="de-DE" sz="3200" spc="-1" strike="noStrike">
                <a:solidFill>
                  <a:srgbClr val="ffffff"/>
                </a:solidFill>
                <a:latin typeface="Tahoma"/>
              </a:rPr>
              <a:t> (Luk 1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ahoma"/>
              </a:rPr>
              <a:t>am Tisch des </a:t>
            </a:r>
            <a:r>
              <a:rPr b="1" lang="de-DE" sz="3200" spc="-1" strike="noStrike">
                <a:solidFill>
                  <a:srgbClr val="66ccff"/>
                </a:solidFill>
                <a:latin typeface="Tahoma"/>
              </a:rPr>
              <a:t>Simons</a:t>
            </a:r>
            <a:r>
              <a:rPr b="1" lang="de-DE" sz="3200" spc="-1" strike="noStrike">
                <a:solidFill>
                  <a:srgbClr val="ffffff"/>
                </a:solidFill>
                <a:latin typeface="Tahoma"/>
              </a:rPr>
              <a:t> des Pharisäers (Luk 7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ahoma"/>
              </a:rPr>
              <a:t>am Tisch des </a:t>
            </a:r>
            <a:r>
              <a:rPr b="1" lang="de-DE" sz="3200" spc="-1" strike="noStrike">
                <a:solidFill>
                  <a:srgbClr val="66ccff"/>
                </a:solidFill>
                <a:latin typeface="Tahoma"/>
              </a:rPr>
              <a:t>Zachäus</a:t>
            </a:r>
            <a:r>
              <a:rPr b="1" lang="de-DE" sz="3200" spc="-1" strike="noStrike">
                <a:solidFill>
                  <a:srgbClr val="ffffff"/>
                </a:solidFill>
                <a:latin typeface="Tahoma"/>
              </a:rPr>
              <a:t> (Luk 19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Tahoma"/>
              </a:rPr>
              <a:t>am Tisch im </a:t>
            </a:r>
            <a:r>
              <a:rPr b="1" lang="de-DE" sz="3200" spc="-1" strike="noStrike">
                <a:solidFill>
                  <a:srgbClr val="66ccff"/>
                </a:solidFill>
                <a:latin typeface="Tahoma"/>
              </a:rPr>
              <a:t>Obersaal</a:t>
            </a:r>
            <a:r>
              <a:rPr b="1" lang="de-DE" sz="3200" spc="-1" strike="noStrike">
                <a:solidFill>
                  <a:srgbClr val="ffffff"/>
                </a:solidFill>
                <a:latin typeface="Tahoma"/>
              </a:rPr>
              <a:t> (Luk 2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1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2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7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9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4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5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6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1" dur="8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2" dur="8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3" dur="8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8" dur="8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9" dur="8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0" dur="8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5" dur="8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6" dur="8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7" dur="8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-3160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ff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ff99ff"/>
                </a:solidFill>
                <a:latin typeface="Tahoma"/>
              </a:rPr>
              <a:t>2. Korinther 5,11-15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91440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ff99ff"/>
                </a:solidFill>
                <a:uFillTx/>
                <a:latin typeface="Tahoma"/>
              </a:rPr>
              <a:t>Wozu drängt uns die Liebe Christi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Tahoma"/>
              </a:rPr>
              <a:t>Ih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äglich nahe zu sein durch Wort Gottes u. Geb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um </a:t>
            </a:r>
            <a:r>
              <a:rPr b="1" lang="en-US" sz="2800" spc="-1" strike="noStrike">
                <a:solidFill>
                  <a:srgbClr val="66ccff"/>
                </a:solidFill>
                <a:latin typeface="Tahoma"/>
              </a:rPr>
              <a:t>Gebe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ür Geschwister und Verlore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um Aufbau von </a:t>
            </a:r>
            <a:r>
              <a:rPr b="1" lang="en-US" sz="2800" spc="-1" strike="noStrike">
                <a:solidFill>
                  <a:srgbClr val="66ccff"/>
                </a:solidFill>
                <a:latin typeface="Tahoma"/>
              </a:rPr>
              <a:t>Beziehunge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zu Nichtgläubi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ur </a:t>
            </a:r>
            <a:r>
              <a:rPr b="1" lang="en-US" sz="2800" spc="-1" strike="noStrike">
                <a:solidFill>
                  <a:srgbClr val="66ccff"/>
                </a:solidFill>
                <a:latin typeface="Tahoma"/>
              </a:rPr>
              <a:t>Persönlichen Evangelis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ur </a:t>
            </a:r>
            <a:r>
              <a:rPr b="1" lang="en-US" sz="2800" spc="-1" strike="noStrike">
                <a:solidFill>
                  <a:srgbClr val="66ccff"/>
                </a:solidFill>
                <a:latin typeface="Tahoma"/>
              </a:rPr>
              <a:t>Gemeindeevangelis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u verlässlicher </a:t>
            </a:r>
            <a:r>
              <a:rPr b="1" lang="en-US" sz="2800" spc="-1" strike="noStrike">
                <a:solidFill>
                  <a:srgbClr val="66ccff"/>
                </a:solidFill>
                <a:latin typeface="Tahoma"/>
              </a:rPr>
              <a:t>Nacharbei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r Gläubiggeworden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ur </a:t>
            </a:r>
            <a:r>
              <a:rPr b="1" lang="en-US" sz="2800" spc="-1" strike="noStrike">
                <a:solidFill>
                  <a:srgbClr val="66ccff"/>
                </a:solidFill>
                <a:latin typeface="Tahoma"/>
              </a:rPr>
              <a:t>Weiterführu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uchender Menschen in Zweierbeziehungen und evangelistischen Kreisen, einschl. herzlicher Kontakte auf privater Ebe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-17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684360" y="303120"/>
            <a:ext cx="7236000" cy="6057720"/>
            <a:chOff x="684360" y="303120"/>
            <a:chExt cx="7236000" cy="6057720"/>
          </a:xfrm>
        </p:grpSpPr>
        <p:sp>
          <p:nvSpPr>
            <p:cNvPr id="194" name=""/>
            <p:cNvSpPr/>
            <p:nvPr/>
          </p:nvSpPr>
          <p:spPr>
            <a:xfrm rot="20012400">
              <a:off x="1860480" y="2246040"/>
              <a:ext cx="5824080" cy="242784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82840" y="3732120"/>
              <a:ext cx="2221560" cy="114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Ingri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Wunschi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4343400" y="3274560"/>
              <a:ext cx="653040" cy="6858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04760" y="2360520"/>
              <a:ext cx="2220840" cy="1028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Dr. Fre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Wunschi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2252160" y="2702880"/>
              <a:ext cx="653760" cy="11430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945720" y="1560600"/>
              <a:ext cx="2351520" cy="114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In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Wunschi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99120" y="303120"/>
              <a:ext cx="2613240" cy="1028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Jürgen</a:t>
              </a:r>
              <a:r>
                <a:rPr b="1" lang="de-DE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 </a:t>
              </a:r>
              <a:r>
                <a:rPr b="1" lang="de-DE" sz="20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Wunschi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2382840" y="1332000"/>
              <a:ext cx="261360" cy="22824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35800" y="303120"/>
              <a:ext cx="2220840" cy="114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Frau Dr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Schneid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3559320" y="1331640"/>
              <a:ext cx="1567800" cy="24001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4360" y="5217840"/>
              <a:ext cx="1829160" cy="91440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Sharon Wittic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1860480" y="4646160"/>
              <a:ext cx="783720" cy="5713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19520" y="4189320"/>
              <a:ext cx="2220840" cy="914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Claud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Gaberdi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04760" y="4417920"/>
              <a:ext cx="914760" cy="2286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519520" y="5332320"/>
              <a:ext cx="2220840" cy="1028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Karlheinz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Gaberdi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564240" y="5103720"/>
              <a:ext cx="0" cy="2286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66920" y="5332320"/>
              <a:ext cx="2221560" cy="1028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Brunhild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Gaberdi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996440" y="4989600"/>
              <a:ext cx="914400" cy="45684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0" y="-17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276720" y="500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70040" y="1142280"/>
            <a:ext cx="200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956240" y="1916280"/>
            <a:ext cx="3930480" cy="4326840"/>
            <a:chOff x="1956240" y="1916280"/>
            <a:chExt cx="3930480" cy="4326840"/>
          </a:xfrm>
        </p:grpSpPr>
        <p:sp>
          <p:nvSpPr>
            <p:cNvPr id="216" name=""/>
            <p:cNvSpPr/>
            <p:nvPr/>
          </p:nvSpPr>
          <p:spPr>
            <a:xfrm>
              <a:off x="2062080" y="3803760"/>
              <a:ext cx="1747080" cy="1560960"/>
            </a:xfrm>
            <a:custGeom>
              <a:avLst/>
              <a:gdLst/>
              <a:ahLst/>
              <a:rect l="l" t="t" r="r" b="b"/>
              <a:pathLst>
                <a:path w="2751" h="2459">
                  <a:moveTo>
                    <a:pt x="0" y="0"/>
                  </a:moveTo>
                  <a:lnTo>
                    <a:pt x="2751" y="568"/>
                  </a:lnTo>
                  <a:lnTo>
                    <a:pt x="2664" y="2459"/>
                  </a:lnTo>
                  <a:lnTo>
                    <a:pt x="1981" y="2411"/>
                  </a:lnTo>
                  <a:lnTo>
                    <a:pt x="1959" y="2387"/>
                  </a:lnTo>
                  <a:lnTo>
                    <a:pt x="1894" y="2312"/>
                  </a:lnTo>
                  <a:lnTo>
                    <a:pt x="1792" y="2204"/>
                  </a:lnTo>
                  <a:lnTo>
                    <a:pt x="1661" y="2057"/>
                  </a:lnTo>
                  <a:lnTo>
                    <a:pt x="1509" y="1884"/>
                  </a:lnTo>
                  <a:lnTo>
                    <a:pt x="1338" y="1690"/>
                  </a:lnTo>
                  <a:lnTo>
                    <a:pt x="1156" y="1479"/>
                  </a:lnTo>
                  <a:lnTo>
                    <a:pt x="967" y="1265"/>
                  </a:lnTo>
                  <a:lnTo>
                    <a:pt x="782" y="1044"/>
                  </a:lnTo>
                  <a:lnTo>
                    <a:pt x="600" y="833"/>
                  </a:lnTo>
                  <a:lnTo>
                    <a:pt x="433" y="629"/>
                  </a:lnTo>
                  <a:lnTo>
                    <a:pt x="284" y="442"/>
                  </a:lnTo>
                  <a:lnTo>
                    <a:pt x="160" y="282"/>
                  </a:lnTo>
                  <a:lnTo>
                    <a:pt x="70" y="149"/>
                  </a:lnTo>
                  <a:lnTo>
                    <a:pt x="11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74600" y="5006160"/>
              <a:ext cx="3865680" cy="1198440"/>
            </a:xfrm>
            <a:custGeom>
              <a:avLst/>
              <a:gdLst/>
              <a:ahLst/>
              <a:rect l="l" t="t" r="r" b="b"/>
              <a:pathLst>
                <a:path w="6087" h="1888">
                  <a:moveTo>
                    <a:pt x="26" y="789"/>
                  </a:moveTo>
                  <a:lnTo>
                    <a:pt x="19" y="888"/>
                  </a:lnTo>
                  <a:lnTo>
                    <a:pt x="4" y="1112"/>
                  </a:lnTo>
                  <a:lnTo>
                    <a:pt x="0" y="1344"/>
                  </a:lnTo>
                  <a:lnTo>
                    <a:pt x="22" y="1473"/>
                  </a:lnTo>
                  <a:lnTo>
                    <a:pt x="44" y="1500"/>
                  </a:lnTo>
                  <a:lnTo>
                    <a:pt x="44" y="1510"/>
                  </a:lnTo>
                  <a:lnTo>
                    <a:pt x="29" y="1510"/>
                  </a:lnTo>
                  <a:lnTo>
                    <a:pt x="22" y="1510"/>
                  </a:lnTo>
                  <a:lnTo>
                    <a:pt x="164" y="1473"/>
                  </a:lnTo>
                  <a:lnTo>
                    <a:pt x="160" y="1435"/>
                  </a:lnTo>
                  <a:lnTo>
                    <a:pt x="157" y="1354"/>
                  </a:lnTo>
                  <a:lnTo>
                    <a:pt x="164" y="1259"/>
                  </a:lnTo>
                  <a:lnTo>
                    <a:pt x="189" y="1191"/>
                  </a:lnTo>
                  <a:lnTo>
                    <a:pt x="197" y="1191"/>
                  </a:lnTo>
                  <a:lnTo>
                    <a:pt x="215" y="1194"/>
                  </a:lnTo>
                  <a:lnTo>
                    <a:pt x="244" y="1201"/>
                  </a:lnTo>
                  <a:lnTo>
                    <a:pt x="287" y="1208"/>
                  </a:lnTo>
                  <a:lnTo>
                    <a:pt x="338" y="1214"/>
                  </a:lnTo>
                  <a:lnTo>
                    <a:pt x="400" y="1225"/>
                  </a:lnTo>
                  <a:lnTo>
                    <a:pt x="469" y="1235"/>
                  </a:lnTo>
                  <a:lnTo>
                    <a:pt x="545" y="1248"/>
                  </a:lnTo>
                  <a:lnTo>
                    <a:pt x="629" y="1262"/>
                  </a:lnTo>
                  <a:lnTo>
                    <a:pt x="720" y="1276"/>
                  </a:lnTo>
                  <a:lnTo>
                    <a:pt x="814" y="1293"/>
                  </a:lnTo>
                  <a:lnTo>
                    <a:pt x="916" y="1310"/>
                  </a:lnTo>
                  <a:lnTo>
                    <a:pt x="1018" y="1327"/>
                  </a:lnTo>
                  <a:lnTo>
                    <a:pt x="1127" y="1347"/>
                  </a:lnTo>
                  <a:lnTo>
                    <a:pt x="1236" y="1364"/>
                  </a:lnTo>
                  <a:lnTo>
                    <a:pt x="1345" y="1384"/>
                  </a:lnTo>
                  <a:lnTo>
                    <a:pt x="1454" y="1405"/>
                  </a:lnTo>
                  <a:lnTo>
                    <a:pt x="1567" y="1425"/>
                  </a:lnTo>
                  <a:lnTo>
                    <a:pt x="1676" y="1446"/>
                  </a:lnTo>
                  <a:lnTo>
                    <a:pt x="1785" y="1466"/>
                  </a:lnTo>
                  <a:lnTo>
                    <a:pt x="1890" y="1486"/>
                  </a:lnTo>
                  <a:lnTo>
                    <a:pt x="1992" y="1510"/>
                  </a:lnTo>
                  <a:lnTo>
                    <a:pt x="2090" y="1531"/>
                  </a:lnTo>
                  <a:lnTo>
                    <a:pt x="2184" y="1548"/>
                  </a:lnTo>
                  <a:lnTo>
                    <a:pt x="2272" y="1568"/>
                  </a:lnTo>
                  <a:lnTo>
                    <a:pt x="2351" y="1588"/>
                  </a:lnTo>
                  <a:lnTo>
                    <a:pt x="2428" y="1605"/>
                  </a:lnTo>
                  <a:lnTo>
                    <a:pt x="2493" y="1626"/>
                  </a:lnTo>
                  <a:lnTo>
                    <a:pt x="2551" y="1643"/>
                  </a:lnTo>
                  <a:lnTo>
                    <a:pt x="2599" y="1656"/>
                  </a:lnTo>
                  <a:lnTo>
                    <a:pt x="2635" y="1674"/>
                  </a:lnTo>
                  <a:lnTo>
                    <a:pt x="2660" y="1687"/>
                  </a:lnTo>
                  <a:lnTo>
                    <a:pt x="2700" y="1864"/>
                  </a:lnTo>
                  <a:lnTo>
                    <a:pt x="2900" y="1888"/>
                  </a:lnTo>
                  <a:lnTo>
                    <a:pt x="2915" y="1650"/>
                  </a:lnTo>
                  <a:lnTo>
                    <a:pt x="5785" y="412"/>
                  </a:lnTo>
                  <a:lnTo>
                    <a:pt x="5793" y="418"/>
                  </a:lnTo>
                  <a:lnTo>
                    <a:pt x="5815" y="432"/>
                  </a:lnTo>
                  <a:lnTo>
                    <a:pt x="5844" y="456"/>
                  </a:lnTo>
                  <a:lnTo>
                    <a:pt x="5876" y="483"/>
                  </a:lnTo>
                  <a:lnTo>
                    <a:pt x="5905" y="514"/>
                  </a:lnTo>
                  <a:lnTo>
                    <a:pt x="5934" y="544"/>
                  </a:lnTo>
                  <a:lnTo>
                    <a:pt x="5949" y="568"/>
                  </a:lnTo>
                  <a:lnTo>
                    <a:pt x="5953" y="589"/>
                  </a:lnTo>
                  <a:lnTo>
                    <a:pt x="6051" y="589"/>
                  </a:lnTo>
                  <a:lnTo>
                    <a:pt x="6076" y="255"/>
                  </a:lnTo>
                  <a:lnTo>
                    <a:pt x="6087" y="0"/>
                  </a:lnTo>
                  <a:lnTo>
                    <a:pt x="26" y="7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118240" y="5613120"/>
              <a:ext cx="1179000" cy="338760"/>
            </a:xfrm>
            <a:custGeom>
              <a:avLst/>
              <a:gdLst/>
              <a:ahLst/>
              <a:rect l="l" t="t" r="r" b="b"/>
              <a:pathLst>
                <a:path w="1857" h="534">
                  <a:moveTo>
                    <a:pt x="123" y="0"/>
                  </a:moveTo>
                  <a:lnTo>
                    <a:pt x="1450" y="343"/>
                  </a:lnTo>
                  <a:lnTo>
                    <a:pt x="1857" y="534"/>
                  </a:lnTo>
                  <a:lnTo>
                    <a:pt x="0" y="245"/>
                  </a:lnTo>
                  <a:lnTo>
                    <a:pt x="0" y="235"/>
                  </a:lnTo>
                  <a:lnTo>
                    <a:pt x="3" y="204"/>
                  </a:lnTo>
                  <a:lnTo>
                    <a:pt x="7" y="163"/>
                  </a:lnTo>
                  <a:lnTo>
                    <a:pt x="18" y="115"/>
                  </a:lnTo>
                  <a:lnTo>
                    <a:pt x="32" y="71"/>
                  </a:lnTo>
                  <a:lnTo>
                    <a:pt x="54" y="34"/>
                  </a:lnTo>
                  <a:lnTo>
                    <a:pt x="83" y="7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91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38240" y="3623760"/>
              <a:ext cx="2136960" cy="2226240"/>
            </a:xfrm>
            <a:custGeom>
              <a:avLst/>
              <a:gdLst/>
              <a:ahLst/>
              <a:rect l="l" t="t" r="r" b="b"/>
              <a:pathLst>
                <a:path w="3365" h="3507">
                  <a:moveTo>
                    <a:pt x="61" y="898"/>
                  </a:moveTo>
                  <a:lnTo>
                    <a:pt x="0" y="3507"/>
                  </a:lnTo>
                  <a:lnTo>
                    <a:pt x="3" y="3507"/>
                  </a:lnTo>
                  <a:lnTo>
                    <a:pt x="18" y="3504"/>
                  </a:lnTo>
                  <a:lnTo>
                    <a:pt x="43" y="3500"/>
                  </a:lnTo>
                  <a:lnTo>
                    <a:pt x="76" y="3493"/>
                  </a:lnTo>
                  <a:lnTo>
                    <a:pt x="120" y="3480"/>
                  </a:lnTo>
                  <a:lnTo>
                    <a:pt x="178" y="3466"/>
                  </a:lnTo>
                  <a:lnTo>
                    <a:pt x="243" y="3446"/>
                  </a:lnTo>
                  <a:lnTo>
                    <a:pt x="327" y="3422"/>
                  </a:lnTo>
                  <a:lnTo>
                    <a:pt x="418" y="3391"/>
                  </a:lnTo>
                  <a:lnTo>
                    <a:pt x="527" y="3351"/>
                  </a:lnTo>
                  <a:lnTo>
                    <a:pt x="646" y="3306"/>
                  </a:lnTo>
                  <a:lnTo>
                    <a:pt x="785" y="3255"/>
                  </a:lnTo>
                  <a:lnTo>
                    <a:pt x="934" y="3194"/>
                  </a:lnTo>
                  <a:lnTo>
                    <a:pt x="1101" y="3123"/>
                  </a:lnTo>
                  <a:lnTo>
                    <a:pt x="1282" y="3044"/>
                  </a:lnTo>
                  <a:lnTo>
                    <a:pt x="1482" y="2953"/>
                  </a:lnTo>
                  <a:lnTo>
                    <a:pt x="3314" y="2279"/>
                  </a:lnTo>
                  <a:lnTo>
                    <a:pt x="3365" y="0"/>
                  </a:lnTo>
                  <a:lnTo>
                    <a:pt x="61" y="898"/>
                  </a:lnTo>
                  <a:close/>
                </a:path>
              </a:pathLst>
            </a:custGeom>
            <a:solidFill>
              <a:srgbClr val="c6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83960" y="4043160"/>
              <a:ext cx="567720" cy="1260720"/>
            </a:xfrm>
            <a:custGeom>
              <a:avLst/>
              <a:gdLst/>
              <a:ahLst/>
              <a:rect l="l" t="t" r="r" b="b"/>
              <a:pathLst>
                <a:path w="894" h="1986">
                  <a:moveTo>
                    <a:pt x="0" y="286"/>
                  </a:moveTo>
                  <a:lnTo>
                    <a:pt x="4" y="306"/>
                  </a:lnTo>
                  <a:lnTo>
                    <a:pt x="18" y="361"/>
                  </a:lnTo>
                  <a:lnTo>
                    <a:pt x="40" y="442"/>
                  </a:lnTo>
                  <a:lnTo>
                    <a:pt x="69" y="541"/>
                  </a:lnTo>
                  <a:lnTo>
                    <a:pt x="109" y="643"/>
                  </a:lnTo>
                  <a:lnTo>
                    <a:pt x="157" y="745"/>
                  </a:lnTo>
                  <a:lnTo>
                    <a:pt x="211" y="830"/>
                  </a:lnTo>
                  <a:lnTo>
                    <a:pt x="276" y="898"/>
                  </a:lnTo>
                  <a:lnTo>
                    <a:pt x="349" y="953"/>
                  </a:lnTo>
                  <a:lnTo>
                    <a:pt x="425" y="1014"/>
                  </a:lnTo>
                  <a:lnTo>
                    <a:pt x="498" y="1075"/>
                  </a:lnTo>
                  <a:lnTo>
                    <a:pt x="564" y="1143"/>
                  </a:lnTo>
                  <a:lnTo>
                    <a:pt x="622" y="1218"/>
                  </a:lnTo>
                  <a:lnTo>
                    <a:pt x="662" y="1299"/>
                  </a:lnTo>
                  <a:lnTo>
                    <a:pt x="687" y="1384"/>
                  </a:lnTo>
                  <a:lnTo>
                    <a:pt x="691" y="1480"/>
                  </a:lnTo>
                  <a:lnTo>
                    <a:pt x="691" y="1575"/>
                  </a:lnTo>
                  <a:lnTo>
                    <a:pt x="709" y="1667"/>
                  </a:lnTo>
                  <a:lnTo>
                    <a:pt x="734" y="1755"/>
                  </a:lnTo>
                  <a:lnTo>
                    <a:pt x="771" y="1830"/>
                  </a:lnTo>
                  <a:lnTo>
                    <a:pt x="807" y="1895"/>
                  </a:lnTo>
                  <a:lnTo>
                    <a:pt x="836" y="1942"/>
                  </a:lnTo>
                  <a:lnTo>
                    <a:pt x="862" y="1976"/>
                  </a:lnTo>
                  <a:lnTo>
                    <a:pt x="869" y="1986"/>
                  </a:lnTo>
                  <a:lnTo>
                    <a:pt x="876" y="1680"/>
                  </a:lnTo>
                  <a:lnTo>
                    <a:pt x="891" y="1007"/>
                  </a:lnTo>
                  <a:lnTo>
                    <a:pt x="894" y="327"/>
                  </a:lnTo>
                  <a:lnTo>
                    <a:pt x="869" y="4"/>
                  </a:lnTo>
                  <a:lnTo>
                    <a:pt x="847" y="0"/>
                  </a:lnTo>
                  <a:lnTo>
                    <a:pt x="814" y="0"/>
                  </a:lnTo>
                  <a:lnTo>
                    <a:pt x="763" y="7"/>
                  </a:lnTo>
                  <a:lnTo>
                    <a:pt x="705" y="17"/>
                  </a:lnTo>
                  <a:lnTo>
                    <a:pt x="636" y="31"/>
                  </a:lnTo>
                  <a:lnTo>
                    <a:pt x="564" y="48"/>
                  </a:lnTo>
                  <a:lnTo>
                    <a:pt x="487" y="68"/>
                  </a:lnTo>
                  <a:lnTo>
                    <a:pt x="407" y="92"/>
                  </a:lnTo>
                  <a:lnTo>
                    <a:pt x="327" y="116"/>
                  </a:lnTo>
                  <a:lnTo>
                    <a:pt x="255" y="140"/>
                  </a:lnTo>
                  <a:lnTo>
                    <a:pt x="186" y="167"/>
                  </a:lnTo>
                  <a:lnTo>
                    <a:pt x="124" y="191"/>
                  </a:lnTo>
                  <a:lnTo>
                    <a:pt x="69" y="218"/>
                  </a:lnTo>
                  <a:lnTo>
                    <a:pt x="33" y="242"/>
                  </a:lnTo>
                  <a:lnTo>
                    <a:pt x="8" y="265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91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391280" y="4418640"/>
              <a:ext cx="581400" cy="569880"/>
            </a:xfrm>
            <a:custGeom>
              <a:avLst/>
              <a:gdLst/>
              <a:ahLst/>
              <a:rect l="l" t="t" r="r" b="b"/>
              <a:pathLst>
                <a:path w="916" h="898">
                  <a:moveTo>
                    <a:pt x="0" y="0"/>
                  </a:moveTo>
                  <a:lnTo>
                    <a:pt x="76" y="14"/>
                  </a:lnTo>
                  <a:lnTo>
                    <a:pt x="73" y="20"/>
                  </a:lnTo>
                  <a:lnTo>
                    <a:pt x="73" y="48"/>
                  </a:lnTo>
                  <a:lnTo>
                    <a:pt x="69" y="85"/>
                  </a:lnTo>
                  <a:lnTo>
                    <a:pt x="73" y="133"/>
                  </a:lnTo>
                  <a:lnTo>
                    <a:pt x="80" y="194"/>
                  </a:lnTo>
                  <a:lnTo>
                    <a:pt x="102" y="262"/>
                  </a:lnTo>
                  <a:lnTo>
                    <a:pt x="138" y="337"/>
                  </a:lnTo>
                  <a:lnTo>
                    <a:pt x="189" y="415"/>
                  </a:lnTo>
                  <a:lnTo>
                    <a:pt x="222" y="452"/>
                  </a:lnTo>
                  <a:lnTo>
                    <a:pt x="262" y="480"/>
                  </a:lnTo>
                  <a:lnTo>
                    <a:pt x="309" y="503"/>
                  </a:lnTo>
                  <a:lnTo>
                    <a:pt x="356" y="520"/>
                  </a:lnTo>
                  <a:lnTo>
                    <a:pt x="407" y="531"/>
                  </a:lnTo>
                  <a:lnTo>
                    <a:pt x="462" y="537"/>
                  </a:lnTo>
                  <a:lnTo>
                    <a:pt x="516" y="544"/>
                  </a:lnTo>
                  <a:lnTo>
                    <a:pt x="571" y="544"/>
                  </a:lnTo>
                  <a:lnTo>
                    <a:pt x="621" y="544"/>
                  </a:lnTo>
                  <a:lnTo>
                    <a:pt x="676" y="541"/>
                  </a:lnTo>
                  <a:lnTo>
                    <a:pt x="727" y="537"/>
                  </a:lnTo>
                  <a:lnTo>
                    <a:pt x="770" y="534"/>
                  </a:lnTo>
                  <a:lnTo>
                    <a:pt x="814" y="531"/>
                  </a:lnTo>
                  <a:lnTo>
                    <a:pt x="850" y="527"/>
                  </a:lnTo>
                  <a:lnTo>
                    <a:pt x="883" y="527"/>
                  </a:lnTo>
                  <a:lnTo>
                    <a:pt x="908" y="531"/>
                  </a:lnTo>
                  <a:lnTo>
                    <a:pt x="916" y="537"/>
                  </a:lnTo>
                  <a:lnTo>
                    <a:pt x="901" y="554"/>
                  </a:lnTo>
                  <a:lnTo>
                    <a:pt x="869" y="575"/>
                  </a:lnTo>
                  <a:lnTo>
                    <a:pt x="814" y="599"/>
                  </a:lnTo>
                  <a:lnTo>
                    <a:pt x="749" y="626"/>
                  </a:lnTo>
                  <a:lnTo>
                    <a:pt x="672" y="656"/>
                  </a:lnTo>
                  <a:lnTo>
                    <a:pt x="589" y="690"/>
                  </a:lnTo>
                  <a:lnTo>
                    <a:pt x="498" y="724"/>
                  </a:lnTo>
                  <a:lnTo>
                    <a:pt x="407" y="755"/>
                  </a:lnTo>
                  <a:lnTo>
                    <a:pt x="320" y="789"/>
                  </a:lnTo>
                  <a:lnTo>
                    <a:pt x="233" y="816"/>
                  </a:lnTo>
                  <a:lnTo>
                    <a:pt x="160" y="843"/>
                  </a:lnTo>
                  <a:lnTo>
                    <a:pt x="95" y="867"/>
                  </a:lnTo>
                  <a:lnTo>
                    <a:pt x="44" y="884"/>
                  </a:lnTo>
                  <a:lnTo>
                    <a:pt x="11" y="895"/>
                  </a:lnTo>
                  <a:lnTo>
                    <a:pt x="0" y="8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1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19280" y="5317200"/>
              <a:ext cx="680760" cy="293040"/>
            </a:xfrm>
            <a:custGeom>
              <a:avLst/>
              <a:gdLst/>
              <a:ahLst/>
              <a:rect l="l" t="t" r="r" b="b"/>
              <a:pathLst>
                <a:path w="1072" h="462">
                  <a:moveTo>
                    <a:pt x="37" y="146"/>
                  </a:moveTo>
                  <a:lnTo>
                    <a:pt x="44" y="139"/>
                  </a:lnTo>
                  <a:lnTo>
                    <a:pt x="62" y="119"/>
                  </a:lnTo>
                  <a:lnTo>
                    <a:pt x="98" y="92"/>
                  </a:lnTo>
                  <a:lnTo>
                    <a:pt x="146" y="61"/>
                  </a:lnTo>
                  <a:lnTo>
                    <a:pt x="211" y="30"/>
                  </a:lnTo>
                  <a:lnTo>
                    <a:pt x="287" y="10"/>
                  </a:lnTo>
                  <a:lnTo>
                    <a:pt x="382" y="0"/>
                  </a:lnTo>
                  <a:lnTo>
                    <a:pt x="491" y="3"/>
                  </a:lnTo>
                  <a:lnTo>
                    <a:pt x="549" y="10"/>
                  </a:lnTo>
                  <a:lnTo>
                    <a:pt x="607" y="13"/>
                  </a:lnTo>
                  <a:lnTo>
                    <a:pt x="662" y="20"/>
                  </a:lnTo>
                  <a:lnTo>
                    <a:pt x="716" y="24"/>
                  </a:lnTo>
                  <a:lnTo>
                    <a:pt x="767" y="30"/>
                  </a:lnTo>
                  <a:lnTo>
                    <a:pt x="814" y="34"/>
                  </a:lnTo>
                  <a:lnTo>
                    <a:pt x="858" y="37"/>
                  </a:lnTo>
                  <a:lnTo>
                    <a:pt x="902" y="41"/>
                  </a:lnTo>
                  <a:lnTo>
                    <a:pt x="938" y="44"/>
                  </a:lnTo>
                  <a:lnTo>
                    <a:pt x="971" y="44"/>
                  </a:lnTo>
                  <a:lnTo>
                    <a:pt x="1000" y="48"/>
                  </a:lnTo>
                  <a:lnTo>
                    <a:pt x="1025" y="48"/>
                  </a:lnTo>
                  <a:lnTo>
                    <a:pt x="1047" y="51"/>
                  </a:lnTo>
                  <a:lnTo>
                    <a:pt x="1061" y="51"/>
                  </a:lnTo>
                  <a:lnTo>
                    <a:pt x="1069" y="51"/>
                  </a:lnTo>
                  <a:lnTo>
                    <a:pt x="1072" y="51"/>
                  </a:lnTo>
                  <a:lnTo>
                    <a:pt x="0" y="462"/>
                  </a:lnTo>
                  <a:lnTo>
                    <a:pt x="37" y="146"/>
                  </a:lnTo>
                  <a:close/>
                </a:path>
              </a:pathLst>
            </a:custGeom>
            <a:solidFill>
              <a:srgbClr val="91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38760" y="5006160"/>
              <a:ext cx="177840" cy="192240"/>
            </a:xfrm>
            <a:custGeom>
              <a:avLst/>
              <a:gdLst/>
              <a:ahLst/>
              <a:rect l="l" t="t" r="r" b="b"/>
              <a:pathLst>
                <a:path w="280" h="303">
                  <a:moveTo>
                    <a:pt x="0" y="14"/>
                  </a:moveTo>
                  <a:lnTo>
                    <a:pt x="76" y="0"/>
                  </a:lnTo>
                  <a:lnTo>
                    <a:pt x="87" y="7"/>
                  </a:lnTo>
                  <a:lnTo>
                    <a:pt x="113" y="31"/>
                  </a:lnTo>
                  <a:lnTo>
                    <a:pt x="149" y="61"/>
                  </a:lnTo>
                  <a:lnTo>
                    <a:pt x="193" y="99"/>
                  </a:lnTo>
                  <a:lnTo>
                    <a:pt x="233" y="136"/>
                  </a:lnTo>
                  <a:lnTo>
                    <a:pt x="262" y="174"/>
                  </a:lnTo>
                  <a:lnTo>
                    <a:pt x="280" y="201"/>
                  </a:lnTo>
                  <a:lnTo>
                    <a:pt x="280" y="221"/>
                  </a:lnTo>
                  <a:lnTo>
                    <a:pt x="262" y="235"/>
                  </a:lnTo>
                  <a:lnTo>
                    <a:pt x="236" y="248"/>
                  </a:lnTo>
                  <a:lnTo>
                    <a:pt x="207" y="262"/>
                  </a:lnTo>
                  <a:lnTo>
                    <a:pt x="174" y="276"/>
                  </a:lnTo>
                  <a:lnTo>
                    <a:pt x="142" y="286"/>
                  </a:lnTo>
                  <a:lnTo>
                    <a:pt x="116" y="296"/>
                  </a:lnTo>
                  <a:lnTo>
                    <a:pt x="98" y="299"/>
                  </a:lnTo>
                  <a:lnTo>
                    <a:pt x="91" y="303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91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96720" y="5041080"/>
              <a:ext cx="385200" cy="217440"/>
            </a:xfrm>
            <a:custGeom>
              <a:avLst/>
              <a:gdLst/>
              <a:ahLst/>
              <a:rect l="l" t="t" r="r" b="b"/>
              <a:pathLst>
                <a:path w="607" h="343">
                  <a:moveTo>
                    <a:pt x="607" y="0"/>
                  </a:moveTo>
                  <a:lnTo>
                    <a:pt x="516" y="238"/>
                  </a:lnTo>
                  <a:lnTo>
                    <a:pt x="501" y="241"/>
                  </a:lnTo>
                  <a:lnTo>
                    <a:pt x="465" y="255"/>
                  </a:lnTo>
                  <a:lnTo>
                    <a:pt x="410" y="272"/>
                  </a:lnTo>
                  <a:lnTo>
                    <a:pt x="345" y="289"/>
                  </a:lnTo>
                  <a:lnTo>
                    <a:pt x="280" y="309"/>
                  </a:lnTo>
                  <a:lnTo>
                    <a:pt x="218" y="326"/>
                  </a:lnTo>
                  <a:lnTo>
                    <a:pt x="167" y="340"/>
                  </a:lnTo>
                  <a:lnTo>
                    <a:pt x="138" y="343"/>
                  </a:lnTo>
                  <a:lnTo>
                    <a:pt x="116" y="340"/>
                  </a:lnTo>
                  <a:lnTo>
                    <a:pt x="94" y="329"/>
                  </a:lnTo>
                  <a:lnTo>
                    <a:pt x="73" y="312"/>
                  </a:lnTo>
                  <a:lnTo>
                    <a:pt x="51" y="295"/>
                  </a:lnTo>
                  <a:lnTo>
                    <a:pt x="29" y="278"/>
                  </a:lnTo>
                  <a:lnTo>
                    <a:pt x="14" y="261"/>
                  </a:lnTo>
                  <a:lnTo>
                    <a:pt x="3" y="251"/>
                  </a:lnTo>
                  <a:lnTo>
                    <a:pt x="0" y="248"/>
                  </a:lnTo>
                  <a:lnTo>
                    <a:pt x="599" y="27"/>
                  </a:lnTo>
                  <a:lnTo>
                    <a:pt x="607" y="0"/>
                  </a:lnTo>
                  <a:close/>
                </a:path>
              </a:pathLst>
            </a:custGeom>
            <a:solidFill>
              <a:srgbClr val="91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96840" y="3645360"/>
              <a:ext cx="375840" cy="1230840"/>
            </a:xfrm>
            <a:custGeom>
              <a:avLst/>
              <a:gdLst/>
              <a:ahLst/>
              <a:rect l="l" t="t" r="r" b="b"/>
              <a:pathLst>
                <a:path w="592" h="1939">
                  <a:moveTo>
                    <a:pt x="40" y="119"/>
                  </a:moveTo>
                  <a:lnTo>
                    <a:pt x="0" y="1939"/>
                  </a:lnTo>
                  <a:lnTo>
                    <a:pt x="0" y="1915"/>
                  </a:lnTo>
                  <a:lnTo>
                    <a:pt x="0" y="1847"/>
                  </a:lnTo>
                  <a:lnTo>
                    <a:pt x="7" y="1752"/>
                  </a:lnTo>
                  <a:lnTo>
                    <a:pt x="21" y="1643"/>
                  </a:lnTo>
                  <a:lnTo>
                    <a:pt x="43" y="1531"/>
                  </a:lnTo>
                  <a:lnTo>
                    <a:pt x="76" y="1432"/>
                  </a:lnTo>
                  <a:lnTo>
                    <a:pt x="127" y="1354"/>
                  </a:lnTo>
                  <a:lnTo>
                    <a:pt x="192" y="1313"/>
                  </a:lnTo>
                  <a:lnTo>
                    <a:pt x="265" y="1249"/>
                  </a:lnTo>
                  <a:lnTo>
                    <a:pt x="327" y="1109"/>
                  </a:lnTo>
                  <a:lnTo>
                    <a:pt x="385" y="922"/>
                  </a:lnTo>
                  <a:lnTo>
                    <a:pt x="436" y="715"/>
                  </a:lnTo>
                  <a:lnTo>
                    <a:pt x="476" y="514"/>
                  </a:lnTo>
                  <a:lnTo>
                    <a:pt x="508" y="351"/>
                  </a:lnTo>
                  <a:lnTo>
                    <a:pt x="530" y="249"/>
                  </a:lnTo>
                  <a:lnTo>
                    <a:pt x="545" y="238"/>
                  </a:lnTo>
                  <a:lnTo>
                    <a:pt x="563" y="252"/>
                  </a:lnTo>
                  <a:lnTo>
                    <a:pt x="577" y="164"/>
                  </a:lnTo>
                  <a:lnTo>
                    <a:pt x="588" y="55"/>
                  </a:lnTo>
                  <a:lnTo>
                    <a:pt x="592" y="0"/>
                  </a:lnTo>
                  <a:lnTo>
                    <a:pt x="40" y="119"/>
                  </a:lnTo>
                  <a:close/>
                </a:path>
              </a:pathLst>
            </a:custGeom>
            <a:solidFill>
              <a:srgbClr val="91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55600" y="5258880"/>
              <a:ext cx="1474560" cy="802800"/>
            </a:xfrm>
            <a:custGeom>
              <a:avLst/>
              <a:gdLst/>
              <a:ahLst/>
              <a:rect l="l" t="t" r="r" b="b"/>
              <a:pathLst>
                <a:path w="2322" h="1265">
                  <a:moveTo>
                    <a:pt x="4" y="1265"/>
                  </a:moveTo>
                  <a:lnTo>
                    <a:pt x="0" y="1255"/>
                  </a:lnTo>
                  <a:lnTo>
                    <a:pt x="0" y="1224"/>
                  </a:lnTo>
                  <a:lnTo>
                    <a:pt x="0" y="1180"/>
                  </a:lnTo>
                  <a:lnTo>
                    <a:pt x="11" y="1126"/>
                  </a:lnTo>
                  <a:lnTo>
                    <a:pt x="36" y="1065"/>
                  </a:lnTo>
                  <a:lnTo>
                    <a:pt x="80" y="1000"/>
                  </a:lnTo>
                  <a:lnTo>
                    <a:pt x="149" y="942"/>
                  </a:lnTo>
                  <a:lnTo>
                    <a:pt x="251" y="888"/>
                  </a:lnTo>
                  <a:lnTo>
                    <a:pt x="345" y="844"/>
                  </a:lnTo>
                  <a:lnTo>
                    <a:pt x="403" y="810"/>
                  </a:lnTo>
                  <a:lnTo>
                    <a:pt x="425" y="789"/>
                  </a:lnTo>
                  <a:lnTo>
                    <a:pt x="425" y="772"/>
                  </a:lnTo>
                  <a:lnTo>
                    <a:pt x="411" y="762"/>
                  </a:lnTo>
                  <a:lnTo>
                    <a:pt x="389" y="759"/>
                  </a:lnTo>
                  <a:lnTo>
                    <a:pt x="371" y="755"/>
                  </a:lnTo>
                  <a:lnTo>
                    <a:pt x="363" y="755"/>
                  </a:lnTo>
                  <a:lnTo>
                    <a:pt x="2322" y="0"/>
                  </a:lnTo>
                  <a:lnTo>
                    <a:pt x="2304" y="20"/>
                  </a:lnTo>
                  <a:lnTo>
                    <a:pt x="2253" y="68"/>
                  </a:lnTo>
                  <a:lnTo>
                    <a:pt x="2188" y="136"/>
                  </a:lnTo>
                  <a:lnTo>
                    <a:pt x="2115" y="214"/>
                  </a:lnTo>
                  <a:lnTo>
                    <a:pt x="2046" y="289"/>
                  </a:lnTo>
                  <a:lnTo>
                    <a:pt x="1995" y="354"/>
                  </a:lnTo>
                  <a:lnTo>
                    <a:pt x="1973" y="395"/>
                  </a:lnTo>
                  <a:lnTo>
                    <a:pt x="1991" y="401"/>
                  </a:lnTo>
                  <a:lnTo>
                    <a:pt x="4" y="1265"/>
                  </a:lnTo>
                  <a:close/>
                </a:path>
              </a:pathLst>
            </a:custGeom>
            <a:solidFill>
              <a:srgbClr val="91b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78640" y="3863880"/>
              <a:ext cx="1659600" cy="1986480"/>
            </a:xfrm>
            <a:custGeom>
              <a:avLst/>
              <a:gdLst/>
              <a:ahLst/>
              <a:rect l="l" t="t" r="r" b="b"/>
              <a:pathLst>
                <a:path w="2613" h="3129">
                  <a:moveTo>
                    <a:pt x="47" y="894"/>
                  </a:moveTo>
                  <a:lnTo>
                    <a:pt x="14" y="687"/>
                  </a:lnTo>
                  <a:lnTo>
                    <a:pt x="0" y="466"/>
                  </a:lnTo>
                  <a:lnTo>
                    <a:pt x="7" y="238"/>
                  </a:lnTo>
                  <a:lnTo>
                    <a:pt x="36" y="0"/>
                  </a:lnTo>
                  <a:lnTo>
                    <a:pt x="54" y="10"/>
                  </a:lnTo>
                  <a:lnTo>
                    <a:pt x="109" y="44"/>
                  </a:lnTo>
                  <a:lnTo>
                    <a:pt x="192" y="95"/>
                  </a:lnTo>
                  <a:lnTo>
                    <a:pt x="302" y="167"/>
                  </a:lnTo>
                  <a:lnTo>
                    <a:pt x="432" y="248"/>
                  </a:lnTo>
                  <a:lnTo>
                    <a:pt x="574" y="343"/>
                  </a:lnTo>
                  <a:lnTo>
                    <a:pt x="730" y="449"/>
                  </a:lnTo>
                  <a:lnTo>
                    <a:pt x="887" y="561"/>
                  </a:lnTo>
                  <a:lnTo>
                    <a:pt x="1046" y="677"/>
                  </a:lnTo>
                  <a:lnTo>
                    <a:pt x="1199" y="796"/>
                  </a:lnTo>
                  <a:lnTo>
                    <a:pt x="1341" y="915"/>
                  </a:lnTo>
                  <a:lnTo>
                    <a:pt x="1468" y="1030"/>
                  </a:lnTo>
                  <a:lnTo>
                    <a:pt x="1577" y="1143"/>
                  </a:lnTo>
                  <a:lnTo>
                    <a:pt x="1661" y="1248"/>
                  </a:lnTo>
                  <a:lnTo>
                    <a:pt x="1711" y="1343"/>
                  </a:lnTo>
                  <a:lnTo>
                    <a:pt x="1730" y="1428"/>
                  </a:lnTo>
                  <a:lnTo>
                    <a:pt x="1741" y="1578"/>
                  </a:lnTo>
                  <a:lnTo>
                    <a:pt x="1784" y="1717"/>
                  </a:lnTo>
                  <a:lnTo>
                    <a:pt x="1850" y="1840"/>
                  </a:lnTo>
                  <a:lnTo>
                    <a:pt x="1926" y="1945"/>
                  </a:lnTo>
                  <a:lnTo>
                    <a:pt x="2013" y="2030"/>
                  </a:lnTo>
                  <a:lnTo>
                    <a:pt x="2093" y="2095"/>
                  </a:lnTo>
                  <a:lnTo>
                    <a:pt x="2166" y="2136"/>
                  </a:lnTo>
                  <a:lnTo>
                    <a:pt x="2220" y="2149"/>
                  </a:lnTo>
                  <a:lnTo>
                    <a:pt x="2264" y="2153"/>
                  </a:lnTo>
                  <a:lnTo>
                    <a:pt x="2315" y="2156"/>
                  </a:lnTo>
                  <a:lnTo>
                    <a:pt x="2366" y="2163"/>
                  </a:lnTo>
                  <a:lnTo>
                    <a:pt x="2413" y="2173"/>
                  </a:lnTo>
                  <a:lnTo>
                    <a:pt x="2456" y="2183"/>
                  </a:lnTo>
                  <a:lnTo>
                    <a:pt x="2489" y="2190"/>
                  </a:lnTo>
                  <a:lnTo>
                    <a:pt x="2515" y="2194"/>
                  </a:lnTo>
                  <a:lnTo>
                    <a:pt x="2522" y="2197"/>
                  </a:lnTo>
                  <a:lnTo>
                    <a:pt x="2573" y="2255"/>
                  </a:lnTo>
                  <a:lnTo>
                    <a:pt x="2613" y="3129"/>
                  </a:lnTo>
                  <a:lnTo>
                    <a:pt x="2158" y="3085"/>
                  </a:lnTo>
                  <a:lnTo>
                    <a:pt x="2137" y="3078"/>
                  </a:lnTo>
                  <a:lnTo>
                    <a:pt x="2082" y="3054"/>
                  </a:lnTo>
                  <a:lnTo>
                    <a:pt x="1991" y="3013"/>
                  </a:lnTo>
                  <a:lnTo>
                    <a:pt x="1871" y="2959"/>
                  </a:lnTo>
                  <a:lnTo>
                    <a:pt x="1733" y="2884"/>
                  </a:lnTo>
                  <a:lnTo>
                    <a:pt x="1573" y="2796"/>
                  </a:lnTo>
                  <a:lnTo>
                    <a:pt x="1399" y="2687"/>
                  </a:lnTo>
                  <a:lnTo>
                    <a:pt x="1221" y="2564"/>
                  </a:lnTo>
                  <a:lnTo>
                    <a:pt x="1036" y="2422"/>
                  </a:lnTo>
                  <a:lnTo>
                    <a:pt x="854" y="2262"/>
                  </a:lnTo>
                  <a:lnTo>
                    <a:pt x="676" y="2081"/>
                  </a:lnTo>
                  <a:lnTo>
                    <a:pt x="509" y="1881"/>
                  </a:lnTo>
                  <a:lnTo>
                    <a:pt x="360" y="1666"/>
                  </a:lnTo>
                  <a:lnTo>
                    <a:pt x="229" y="1428"/>
                  </a:lnTo>
                  <a:lnTo>
                    <a:pt x="123" y="1170"/>
                  </a:lnTo>
                  <a:lnTo>
                    <a:pt x="47" y="894"/>
                  </a:lnTo>
                  <a:close/>
                </a:path>
              </a:pathLst>
            </a:custGeom>
            <a:solidFill>
              <a:srgbClr val="e0e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777120" y="3513960"/>
              <a:ext cx="2098440" cy="679680"/>
            </a:xfrm>
            <a:custGeom>
              <a:avLst/>
              <a:gdLst/>
              <a:ahLst/>
              <a:rect l="l" t="t" r="r" b="b"/>
              <a:pathLst>
                <a:path w="3304" h="1071">
                  <a:moveTo>
                    <a:pt x="19" y="830"/>
                  </a:moveTo>
                  <a:lnTo>
                    <a:pt x="0" y="1071"/>
                  </a:lnTo>
                  <a:lnTo>
                    <a:pt x="3304" y="173"/>
                  </a:lnTo>
                  <a:lnTo>
                    <a:pt x="3296" y="143"/>
                  </a:lnTo>
                  <a:lnTo>
                    <a:pt x="3275" y="78"/>
                  </a:lnTo>
                  <a:lnTo>
                    <a:pt x="3245" y="17"/>
                  </a:lnTo>
                  <a:lnTo>
                    <a:pt x="3202" y="0"/>
                  </a:lnTo>
                  <a:lnTo>
                    <a:pt x="19" y="830"/>
                  </a:lnTo>
                  <a:close/>
                </a:path>
              </a:pathLst>
            </a:custGeom>
            <a:solidFill>
              <a:srgbClr val="919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23560" y="3699360"/>
              <a:ext cx="1765440" cy="494280"/>
            </a:xfrm>
            <a:custGeom>
              <a:avLst/>
              <a:gdLst/>
              <a:ahLst/>
              <a:rect l="l" t="t" r="r" b="b"/>
              <a:pathLst>
                <a:path w="2780" h="779">
                  <a:moveTo>
                    <a:pt x="21" y="0"/>
                  </a:moveTo>
                  <a:lnTo>
                    <a:pt x="0" y="225"/>
                  </a:lnTo>
                  <a:lnTo>
                    <a:pt x="2761" y="779"/>
                  </a:lnTo>
                  <a:lnTo>
                    <a:pt x="2780" y="53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5e6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36880" y="1916280"/>
              <a:ext cx="2243880" cy="1783080"/>
            </a:xfrm>
            <a:custGeom>
              <a:avLst/>
              <a:gdLst/>
              <a:ahLst/>
              <a:rect l="l" t="t" r="r" b="b"/>
              <a:pathLst>
                <a:path w="3533" h="2809">
                  <a:moveTo>
                    <a:pt x="51" y="425"/>
                  </a:moveTo>
                  <a:lnTo>
                    <a:pt x="3533" y="0"/>
                  </a:lnTo>
                  <a:lnTo>
                    <a:pt x="3467" y="946"/>
                  </a:lnTo>
                  <a:lnTo>
                    <a:pt x="3489" y="2102"/>
                  </a:lnTo>
                  <a:lnTo>
                    <a:pt x="0" y="2809"/>
                  </a:lnTo>
                  <a:lnTo>
                    <a:pt x="40" y="463"/>
                  </a:lnTo>
                  <a:lnTo>
                    <a:pt x="51" y="4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11040" y="2373840"/>
              <a:ext cx="2120400" cy="667080"/>
            </a:xfrm>
            <a:custGeom>
              <a:avLst/>
              <a:gdLst/>
              <a:ahLst/>
              <a:rect l="l" t="t" r="r" b="b"/>
              <a:pathLst>
                <a:path w="3339" h="1051">
                  <a:moveTo>
                    <a:pt x="0" y="320"/>
                  </a:moveTo>
                  <a:lnTo>
                    <a:pt x="730" y="1051"/>
                  </a:lnTo>
                  <a:lnTo>
                    <a:pt x="3339" y="534"/>
                  </a:lnTo>
                  <a:lnTo>
                    <a:pt x="3339" y="0"/>
                  </a:lnTo>
                  <a:lnTo>
                    <a:pt x="0" y="320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14440" y="2773080"/>
              <a:ext cx="666720" cy="1047240"/>
            </a:xfrm>
            <a:custGeom>
              <a:avLst/>
              <a:gdLst/>
              <a:ahLst/>
              <a:rect l="l" t="t" r="r" b="b"/>
              <a:pathLst>
                <a:path w="1050" h="1650">
                  <a:moveTo>
                    <a:pt x="1050" y="4"/>
                  </a:moveTo>
                  <a:lnTo>
                    <a:pt x="1042" y="4"/>
                  </a:lnTo>
                  <a:lnTo>
                    <a:pt x="1028" y="0"/>
                  </a:lnTo>
                  <a:lnTo>
                    <a:pt x="999" y="0"/>
                  </a:lnTo>
                  <a:lnTo>
                    <a:pt x="963" y="4"/>
                  </a:lnTo>
                  <a:lnTo>
                    <a:pt x="919" y="7"/>
                  </a:lnTo>
                  <a:lnTo>
                    <a:pt x="868" y="14"/>
                  </a:lnTo>
                  <a:lnTo>
                    <a:pt x="814" y="24"/>
                  </a:lnTo>
                  <a:lnTo>
                    <a:pt x="752" y="44"/>
                  </a:lnTo>
                  <a:lnTo>
                    <a:pt x="686" y="68"/>
                  </a:lnTo>
                  <a:lnTo>
                    <a:pt x="621" y="102"/>
                  </a:lnTo>
                  <a:lnTo>
                    <a:pt x="552" y="143"/>
                  </a:lnTo>
                  <a:lnTo>
                    <a:pt x="483" y="198"/>
                  </a:lnTo>
                  <a:lnTo>
                    <a:pt x="414" y="259"/>
                  </a:lnTo>
                  <a:lnTo>
                    <a:pt x="348" y="334"/>
                  </a:lnTo>
                  <a:lnTo>
                    <a:pt x="283" y="425"/>
                  </a:lnTo>
                  <a:lnTo>
                    <a:pt x="225" y="527"/>
                  </a:lnTo>
                  <a:lnTo>
                    <a:pt x="207" y="561"/>
                  </a:lnTo>
                  <a:lnTo>
                    <a:pt x="156" y="657"/>
                  </a:lnTo>
                  <a:lnTo>
                    <a:pt x="94" y="793"/>
                  </a:lnTo>
                  <a:lnTo>
                    <a:pt x="40" y="963"/>
                  </a:lnTo>
                  <a:lnTo>
                    <a:pt x="0" y="1146"/>
                  </a:lnTo>
                  <a:lnTo>
                    <a:pt x="0" y="1334"/>
                  </a:lnTo>
                  <a:lnTo>
                    <a:pt x="47" y="1504"/>
                  </a:lnTo>
                  <a:lnTo>
                    <a:pt x="167" y="1650"/>
                  </a:lnTo>
                  <a:lnTo>
                    <a:pt x="156" y="1633"/>
                  </a:lnTo>
                  <a:lnTo>
                    <a:pt x="130" y="1578"/>
                  </a:lnTo>
                  <a:lnTo>
                    <a:pt x="105" y="1487"/>
                  </a:lnTo>
                  <a:lnTo>
                    <a:pt x="87" y="1361"/>
                  </a:lnTo>
                  <a:lnTo>
                    <a:pt x="90" y="1191"/>
                  </a:lnTo>
                  <a:lnTo>
                    <a:pt x="127" y="983"/>
                  </a:lnTo>
                  <a:lnTo>
                    <a:pt x="207" y="732"/>
                  </a:lnTo>
                  <a:lnTo>
                    <a:pt x="341" y="439"/>
                  </a:lnTo>
                  <a:lnTo>
                    <a:pt x="345" y="436"/>
                  </a:lnTo>
                  <a:lnTo>
                    <a:pt x="356" y="422"/>
                  </a:lnTo>
                  <a:lnTo>
                    <a:pt x="370" y="402"/>
                  </a:lnTo>
                  <a:lnTo>
                    <a:pt x="392" y="378"/>
                  </a:lnTo>
                  <a:lnTo>
                    <a:pt x="421" y="347"/>
                  </a:lnTo>
                  <a:lnTo>
                    <a:pt x="454" y="313"/>
                  </a:lnTo>
                  <a:lnTo>
                    <a:pt x="494" y="276"/>
                  </a:lnTo>
                  <a:lnTo>
                    <a:pt x="537" y="235"/>
                  </a:lnTo>
                  <a:lnTo>
                    <a:pt x="585" y="198"/>
                  </a:lnTo>
                  <a:lnTo>
                    <a:pt x="639" y="160"/>
                  </a:lnTo>
                  <a:lnTo>
                    <a:pt x="697" y="123"/>
                  </a:lnTo>
                  <a:lnTo>
                    <a:pt x="759" y="89"/>
                  </a:lnTo>
                  <a:lnTo>
                    <a:pt x="828" y="58"/>
                  </a:lnTo>
                  <a:lnTo>
                    <a:pt x="897" y="34"/>
                  </a:lnTo>
                  <a:lnTo>
                    <a:pt x="973" y="14"/>
                  </a:lnTo>
                  <a:lnTo>
                    <a:pt x="1050" y="4"/>
                  </a:lnTo>
                  <a:close/>
                </a:path>
              </a:pathLst>
            </a:custGeom>
            <a:solidFill>
              <a:srgbClr val="bfd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62080" y="2433960"/>
              <a:ext cx="648720" cy="218160"/>
            </a:xfrm>
            <a:custGeom>
              <a:avLst/>
              <a:gdLst/>
              <a:ahLst/>
              <a:rect l="l" t="t" r="r" b="b"/>
              <a:pathLst>
                <a:path w="1022" h="344">
                  <a:moveTo>
                    <a:pt x="11" y="0"/>
                  </a:moveTo>
                  <a:lnTo>
                    <a:pt x="996" y="153"/>
                  </a:lnTo>
                  <a:lnTo>
                    <a:pt x="1022" y="344"/>
                  </a:lnTo>
                  <a:lnTo>
                    <a:pt x="0" y="177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5e6b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069280" y="2114640"/>
              <a:ext cx="2603160" cy="403560"/>
            </a:xfrm>
            <a:custGeom>
              <a:avLst/>
              <a:gdLst/>
              <a:ahLst/>
              <a:rect l="l" t="t" r="r" b="b"/>
              <a:pathLst>
                <a:path w="4099" h="636">
                  <a:moveTo>
                    <a:pt x="0" y="503"/>
                  </a:moveTo>
                  <a:lnTo>
                    <a:pt x="3198" y="0"/>
                  </a:lnTo>
                  <a:lnTo>
                    <a:pt x="4099" y="78"/>
                  </a:lnTo>
                  <a:lnTo>
                    <a:pt x="1021" y="636"/>
                  </a:lnTo>
                  <a:lnTo>
                    <a:pt x="0" y="503"/>
                  </a:lnTo>
                  <a:close/>
                </a:path>
              </a:pathLst>
            </a:custGeom>
            <a:solidFill>
              <a:srgbClr val="d8e5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11160" y="2164320"/>
              <a:ext cx="1961280" cy="488160"/>
            </a:xfrm>
            <a:custGeom>
              <a:avLst/>
              <a:gdLst/>
              <a:ahLst/>
              <a:rect l="l" t="t" r="r" b="b"/>
              <a:pathLst>
                <a:path w="3088" h="769">
                  <a:moveTo>
                    <a:pt x="10" y="558"/>
                  </a:moveTo>
                  <a:lnTo>
                    <a:pt x="0" y="769"/>
                  </a:lnTo>
                  <a:lnTo>
                    <a:pt x="3037" y="174"/>
                  </a:lnTo>
                  <a:lnTo>
                    <a:pt x="3088" y="0"/>
                  </a:lnTo>
                  <a:lnTo>
                    <a:pt x="10" y="558"/>
                  </a:lnTo>
                  <a:close/>
                </a:path>
              </a:pathLst>
            </a:custGeom>
            <a:solidFill>
              <a:srgbClr val="919e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36880" y="3250440"/>
              <a:ext cx="3806280" cy="790200"/>
            </a:xfrm>
            <a:custGeom>
              <a:avLst/>
              <a:gdLst/>
              <a:ahLst/>
              <a:rect l="l" t="t" r="r" b="b"/>
              <a:pathLst>
                <a:path w="5993" h="1245">
                  <a:moveTo>
                    <a:pt x="0" y="707"/>
                  </a:moveTo>
                  <a:lnTo>
                    <a:pt x="3489" y="0"/>
                  </a:lnTo>
                  <a:lnTo>
                    <a:pt x="5993" y="463"/>
                  </a:lnTo>
                  <a:lnTo>
                    <a:pt x="2759" y="1245"/>
                  </a:lnTo>
                  <a:lnTo>
                    <a:pt x="2751" y="1245"/>
                  </a:lnTo>
                  <a:lnTo>
                    <a:pt x="2726" y="1241"/>
                  </a:lnTo>
                  <a:lnTo>
                    <a:pt x="2690" y="1235"/>
                  </a:lnTo>
                  <a:lnTo>
                    <a:pt x="2639" y="1228"/>
                  </a:lnTo>
                  <a:lnTo>
                    <a:pt x="2573" y="1218"/>
                  </a:lnTo>
                  <a:lnTo>
                    <a:pt x="2497" y="1204"/>
                  </a:lnTo>
                  <a:lnTo>
                    <a:pt x="2413" y="1194"/>
                  </a:lnTo>
                  <a:lnTo>
                    <a:pt x="2319" y="1177"/>
                  </a:lnTo>
                  <a:lnTo>
                    <a:pt x="2217" y="1163"/>
                  </a:lnTo>
                  <a:lnTo>
                    <a:pt x="2108" y="1143"/>
                  </a:lnTo>
                  <a:lnTo>
                    <a:pt x="1992" y="1126"/>
                  </a:lnTo>
                  <a:lnTo>
                    <a:pt x="1868" y="1105"/>
                  </a:lnTo>
                  <a:lnTo>
                    <a:pt x="1745" y="1085"/>
                  </a:lnTo>
                  <a:lnTo>
                    <a:pt x="1618" y="1065"/>
                  </a:lnTo>
                  <a:lnTo>
                    <a:pt x="1487" y="1044"/>
                  </a:lnTo>
                  <a:lnTo>
                    <a:pt x="1356" y="1020"/>
                  </a:lnTo>
                  <a:lnTo>
                    <a:pt x="1225" y="996"/>
                  </a:lnTo>
                  <a:lnTo>
                    <a:pt x="1098" y="976"/>
                  </a:lnTo>
                  <a:lnTo>
                    <a:pt x="971" y="952"/>
                  </a:lnTo>
                  <a:lnTo>
                    <a:pt x="847" y="928"/>
                  </a:lnTo>
                  <a:lnTo>
                    <a:pt x="727" y="908"/>
                  </a:lnTo>
                  <a:lnTo>
                    <a:pt x="615" y="884"/>
                  </a:lnTo>
                  <a:lnTo>
                    <a:pt x="506" y="864"/>
                  </a:lnTo>
                  <a:lnTo>
                    <a:pt x="404" y="840"/>
                  </a:lnTo>
                  <a:lnTo>
                    <a:pt x="313" y="820"/>
                  </a:lnTo>
                  <a:lnTo>
                    <a:pt x="233" y="803"/>
                  </a:lnTo>
                  <a:lnTo>
                    <a:pt x="160" y="782"/>
                  </a:lnTo>
                  <a:lnTo>
                    <a:pt x="102" y="765"/>
                  </a:lnTo>
                  <a:lnTo>
                    <a:pt x="55" y="748"/>
                  </a:lnTo>
                  <a:lnTo>
                    <a:pt x="22" y="735"/>
                  </a:lnTo>
                  <a:lnTo>
                    <a:pt x="4" y="721"/>
                  </a:lnTo>
                  <a:lnTo>
                    <a:pt x="0" y="707"/>
                  </a:lnTo>
                  <a:close/>
                </a:path>
              </a:pathLst>
            </a:custGeom>
            <a:solidFill>
              <a:srgbClr val="0202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74320" y="3848760"/>
              <a:ext cx="1643040" cy="326160"/>
            </a:xfrm>
            <a:custGeom>
              <a:avLst/>
              <a:gdLst/>
              <a:ahLst/>
              <a:rect l="l" t="t" r="r" b="b"/>
              <a:pathLst>
                <a:path w="2587" h="514">
                  <a:moveTo>
                    <a:pt x="0" y="0"/>
                  </a:moveTo>
                  <a:lnTo>
                    <a:pt x="2587" y="514"/>
                  </a:lnTo>
                  <a:lnTo>
                    <a:pt x="2583" y="514"/>
                  </a:lnTo>
                  <a:lnTo>
                    <a:pt x="2565" y="510"/>
                  </a:lnTo>
                  <a:lnTo>
                    <a:pt x="2540" y="507"/>
                  </a:lnTo>
                  <a:lnTo>
                    <a:pt x="2503" y="503"/>
                  </a:lnTo>
                  <a:lnTo>
                    <a:pt x="2460" y="500"/>
                  </a:lnTo>
                  <a:lnTo>
                    <a:pt x="2409" y="493"/>
                  </a:lnTo>
                  <a:lnTo>
                    <a:pt x="2347" y="486"/>
                  </a:lnTo>
                  <a:lnTo>
                    <a:pt x="2282" y="476"/>
                  </a:lnTo>
                  <a:lnTo>
                    <a:pt x="2205" y="469"/>
                  </a:lnTo>
                  <a:lnTo>
                    <a:pt x="2129" y="459"/>
                  </a:lnTo>
                  <a:lnTo>
                    <a:pt x="2042" y="446"/>
                  </a:lnTo>
                  <a:lnTo>
                    <a:pt x="1951" y="432"/>
                  </a:lnTo>
                  <a:lnTo>
                    <a:pt x="1857" y="422"/>
                  </a:lnTo>
                  <a:lnTo>
                    <a:pt x="1758" y="405"/>
                  </a:lnTo>
                  <a:lnTo>
                    <a:pt x="1660" y="391"/>
                  </a:lnTo>
                  <a:lnTo>
                    <a:pt x="1555" y="374"/>
                  </a:lnTo>
                  <a:lnTo>
                    <a:pt x="1450" y="357"/>
                  </a:lnTo>
                  <a:lnTo>
                    <a:pt x="1341" y="340"/>
                  </a:lnTo>
                  <a:lnTo>
                    <a:pt x="1235" y="320"/>
                  </a:lnTo>
                  <a:lnTo>
                    <a:pt x="1126" y="299"/>
                  </a:lnTo>
                  <a:lnTo>
                    <a:pt x="1017" y="279"/>
                  </a:lnTo>
                  <a:lnTo>
                    <a:pt x="908" y="259"/>
                  </a:lnTo>
                  <a:lnTo>
                    <a:pt x="803" y="235"/>
                  </a:lnTo>
                  <a:lnTo>
                    <a:pt x="697" y="211"/>
                  </a:lnTo>
                  <a:lnTo>
                    <a:pt x="596" y="187"/>
                  </a:lnTo>
                  <a:lnTo>
                    <a:pt x="497" y="163"/>
                  </a:lnTo>
                  <a:lnTo>
                    <a:pt x="403" y="140"/>
                  </a:lnTo>
                  <a:lnTo>
                    <a:pt x="312" y="112"/>
                  </a:lnTo>
                  <a:lnTo>
                    <a:pt x="225" y="85"/>
                  </a:lnTo>
                  <a:lnTo>
                    <a:pt x="145" y="58"/>
                  </a:lnTo>
                  <a:lnTo>
                    <a:pt x="69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48760" y="3544560"/>
              <a:ext cx="1994040" cy="472320"/>
            </a:xfrm>
            <a:custGeom>
              <a:avLst/>
              <a:gdLst/>
              <a:ahLst/>
              <a:rect l="l" t="t" r="r" b="b"/>
              <a:pathLst>
                <a:path w="3140" h="744">
                  <a:moveTo>
                    <a:pt x="0" y="744"/>
                  </a:moveTo>
                  <a:lnTo>
                    <a:pt x="3140" y="0"/>
                  </a:lnTo>
                  <a:lnTo>
                    <a:pt x="3132" y="3"/>
                  </a:lnTo>
                  <a:lnTo>
                    <a:pt x="3111" y="6"/>
                  </a:lnTo>
                  <a:lnTo>
                    <a:pt x="3078" y="17"/>
                  </a:lnTo>
                  <a:lnTo>
                    <a:pt x="3031" y="30"/>
                  </a:lnTo>
                  <a:lnTo>
                    <a:pt x="2973" y="47"/>
                  </a:lnTo>
                  <a:lnTo>
                    <a:pt x="2900" y="68"/>
                  </a:lnTo>
                  <a:lnTo>
                    <a:pt x="2824" y="91"/>
                  </a:lnTo>
                  <a:lnTo>
                    <a:pt x="2733" y="115"/>
                  </a:lnTo>
                  <a:lnTo>
                    <a:pt x="2638" y="142"/>
                  </a:lnTo>
                  <a:lnTo>
                    <a:pt x="2533" y="173"/>
                  </a:lnTo>
                  <a:lnTo>
                    <a:pt x="2420" y="204"/>
                  </a:lnTo>
                  <a:lnTo>
                    <a:pt x="2304" y="234"/>
                  </a:lnTo>
                  <a:lnTo>
                    <a:pt x="2184" y="268"/>
                  </a:lnTo>
                  <a:lnTo>
                    <a:pt x="2057" y="302"/>
                  </a:lnTo>
                  <a:lnTo>
                    <a:pt x="1926" y="336"/>
                  </a:lnTo>
                  <a:lnTo>
                    <a:pt x="1795" y="370"/>
                  </a:lnTo>
                  <a:lnTo>
                    <a:pt x="1661" y="408"/>
                  </a:lnTo>
                  <a:lnTo>
                    <a:pt x="1526" y="442"/>
                  </a:lnTo>
                  <a:lnTo>
                    <a:pt x="1392" y="476"/>
                  </a:lnTo>
                  <a:lnTo>
                    <a:pt x="1257" y="510"/>
                  </a:lnTo>
                  <a:lnTo>
                    <a:pt x="1123" y="540"/>
                  </a:lnTo>
                  <a:lnTo>
                    <a:pt x="996" y="571"/>
                  </a:lnTo>
                  <a:lnTo>
                    <a:pt x="869" y="602"/>
                  </a:lnTo>
                  <a:lnTo>
                    <a:pt x="745" y="629"/>
                  </a:lnTo>
                  <a:lnTo>
                    <a:pt x="625" y="653"/>
                  </a:lnTo>
                  <a:lnTo>
                    <a:pt x="512" y="676"/>
                  </a:lnTo>
                  <a:lnTo>
                    <a:pt x="407" y="697"/>
                  </a:lnTo>
                  <a:lnTo>
                    <a:pt x="305" y="714"/>
                  </a:lnTo>
                  <a:lnTo>
                    <a:pt x="214" y="727"/>
                  </a:lnTo>
                  <a:lnTo>
                    <a:pt x="135" y="738"/>
                  </a:lnTo>
                  <a:lnTo>
                    <a:pt x="62" y="741"/>
                  </a:lnTo>
                  <a:lnTo>
                    <a:pt x="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71440" y="3623760"/>
              <a:ext cx="1978200" cy="529200"/>
            </a:xfrm>
            <a:custGeom>
              <a:avLst/>
              <a:gdLst/>
              <a:ahLst/>
              <a:rect l="l" t="t" r="r" b="b"/>
              <a:pathLst>
                <a:path w="3115" h="834">
                  <a:moveTo>
                    <a:pt x="0" y="834"/>
                  </a:moveTo>
                  <a:lnTo>
                    <a:pt x="3115" y="0"/>
                  </a:lnTo>
                  <a:lnTo>
                    <a:pt x="3107" y="4"/>
                  </a:lnTo>
                  <a:lnTo>
                    <a:pt x="3078" y="7"/>
                  </a:lnTo>
                  <a:lnTo>
                    <a:pt x="3038" y="17"/>
                  </a:lnTo>
                  <a:lnTo>
                    <a:pt x="2980" y="31"/>
                  </a:lnTo>
                  <a:lnTo>
                    <a:pt x="2907" y="45"/>
                  </a:lnTo>
                  <a:lnTo>
                    <a:pt x="2824" y="65"/>
                  </a:lnTo>
                  <a:lnTo>
                    <a:pt x="2729" y="85"/>
                  </a:lnTo>
                  <a:lnTo>
                    <a:pt x="2624" y="109"/>
                  </a:lnTo>
                  <a:lnTo>
                    <a:pt x="2508" y="136"/>
                  </a:lnTo>
                  <a:lnTo>
                    <a:pt x="2384" y="164"/>
                  </a:lnTo>
                  <a:lnTo>
                    <a:pt x="2253" y="194"/>
                  </a:lnTo>
                  <a:lnTo>
                    <a:pt x="2119" y="225"/>
                  </a:lnTo>
                  <a:lnTo>
                    <a:pt x="1981" y="259"/>
                  </a:lnTo>
                  <a:lnTo>
                    <a:pt x="1836" y="289"/>
                  </a:lnTo>
                  <a:lnTo>
                    <a:pt x="1690" y="327"/>
                  </a:lnTo>
                  <a:lnTo>
                    <a:pt x="1545" y="361"/>
                  </a:lnTo>
                  <a:lnTo>
                    <a:pt x="1396" y="398"/>
                  </a:lnTo>
                  <a:lnTo>
                    <a:pt x="1250" y="432"/>
                  </a:lnTo>
                  <a:lnTo>
                    <a:pt x="1109" y="470"/>
                  </a:lnTo>
                  <a:lnTo>
                    <a:pt x="971" y="504"/>
                  </a:lnTo>
                  <a:lnTo>
                    <a:pt x="836" y="541"/>
                  </a:lnTo>
                  <a:lnTo>
                    <a:pt x="705" y="575"/>
                  </a:lnTo>
                  <a:lnTo>
                    <a:pt x="585" y="609"/>
                  </a:lnTo>
                  <a:lnTo>
                    <a:pt x="473" y="640"/>
                  </a:lnTo>
                  <a:lnTo>
                    <a:pt x="367" y="670"/>
                  </a:lnTo>
                  <a:lnTo>
                    <a:pt x="273" y="701"/>
                  </a:lnTo>
                  <a:lnTo>
                    <a:pt x="193" y="728"/>
                  </a:lnTo>
                  <a:lnTo>
                    <a:pt x="124" y="755"/>
                  </a:lnTo>
                  <a:lnTo>
                    <a:pt x="69" y="779"/>
                  </a:lnTo>
                  <a:lnTo>
                    <a:pt x="29" y="800"/>
                  </a:lnTo>
                  <a:lnTo>
                    <a:pt x="8" y="817"/>
                  </a:lnTo>
                  <a:lnTo>
                    <a:pt x="0" y="8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13840" y="2210040"/>
              <a:ext cx="53280" cy="1467720"/>
            </a:xfrm>
            <a:custGeom>
              <a:avLst/>
              <a:gdLst/>
              <a:ahLst/>
              <a:rect l="l" t="t" r="r" b="b"/>
              <a:pathLst>
                <a:path w="84" h="2312">
                  <a:moveTo>
                    <a:pt x="76" y="2312"/>
                  </a:moveTo>
                  <a:lnTo>
                    <a:pt x="80" y="1965"/>
                  </a:lnTo>
                  <a:lnTo>
                    <a:pt x="84" y="1197"/>
                  </a:lnTo>
                  <a:lnTo>
                    <a:pt x="84" y="404"/>
                  </a:lnTo>
                  <a:lnTo>
                    <a:pt x="76" y="0"/>
                  </a:lnTo>
                  <a:lnTo>
                    <a:pt x="69" y="85"/>
                  </a:lnTo>
                  <a:lnTo>
                    <a:pt x="51" y="316"/>
                  </a:lnTo>
                  <a:lnTo>
                    <a:pt x="33" y="649"/>
                  </a:lnTo>
                  <a:lnTo>
                    <a:pt x="11" y="1037"/>
                  </a:lnTo>
                  <a:lnTo>
                    <a:pt x="0" y="1442"/>
                  </a:lnTo>
                  <a:lnTo>
                    <a:pt x="4" y="1819"/>
                  </a:lnTo>
                  <a:lnTo>
                    <a:pt x="29" y="2122"/>
                  </a:lnTo>
                  <a:lnTo>
                    <a:pt x="76" y="23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22560" y="1928880"/>
              <a:ext cx="2118600" cy="266040"/>
            </a:xfrm>
            <a:custGeom>
              <a:avLst/>
              <a:gdLst/>
              <a:ahLst/>
              <a:rect l="l" t="t" r="r" b="b"/>
              <a:pathLst>
                <a:path w="3336" h="419">
                  <a:moveTo>
                    <a:pt x="0" y="392"/>
                  </a:moveTo>
                  <a:lnTo>
                    <a:pt x="3336" y="0"/>
                  </a:lnTo>
                  <a:lnTo>
                    <a:pt x="3325" y="0"/>
                  </a:lnTo>
                  <a:lnTo>
                    <a:pt x="3299" y="7"/>
                  </a:lnTo>
                  <a:lnTo>
                    <a:pt x="3256" y="14"/>
                  </a:lnTo>
                  <a:lnTo>
                    <a:pt x="3198" y="24"/>
                  </a:lnTo>
                  <a:lnTo>
                    <a:pt x="3129" y="34"/>
                  </a:lnTo>
                  <a:lnTo>
                    <a:pt x="3041" y="51"/>
                  </a:lnTo>
                  <a:lnTo>
                    <a:pt x="2947" y="65"/>
                  </a:lnTo>
                  <a:lnTo>
                    <a:pt x="2838" y="82"/>
                  </a:lnTo>
                  <a:lnTo>
                    <a:pt x="2722" y="102"/>
                  </a:lnTo>
                  <a:lnTo>
                    <a:pt x="2595" y="123"/>
                  </a:lnTo>
                  <a:lnTo>
                    <a:pt x="2464" y="143"/>
                  </a:lnTo>
                  <a:lnTo>
                    <a:pt x="2326" y="167"/>
                  </a:lnTo>
                  <a:lnTo>
                    <a:pt x="2180" y="187"/>
                  </a:lnTo>
                  <a:lnTo>
                    <a:pt x="2031" y="211"/>
                  </a:lnTo>
                  <a:lnTo>
                    <a:pt x="1882" y="232"/>
                  </a:lnTo>
                  <a:lnTo>
                    <a:pt x="1730" y="255"/>
                  </a:lnTo>
                  <a:lnTo>
                    <a:pt x="1577" y="276"/>
                  </a:lnTo>
                  <a:lnTo>
                    <a:pt x="1424" y="296"/>
                  </a:lnTo>
                  <a:lnTo>
                    <a:pt x="1275" y="317"/>
                  </a:lnTo>
                  <a:lnTo>
                    <a:pt x="1130" y="337"/>
                  </a:lnTo>
                  <a:lnTo>
                    <a:pt x="985" y="354"/>
                  </a:lnTo>
                  <a:lnTo>
                    <a:pt x="847" y="371"/>
                  </a:lnTo>
                  <a:lnTo>
                    <a:pt x="716" y="385"/>
                  </a:lnTo>
                  <a:lnTo>
                    <a:pt x="592" y="395"/>
                  </a:lnTo>
                  <a:lnTo>
                    <a:pt x="476" y="405"/>
                  </a:lnTo>
                  <a:lnTo>
                    <a:pt x="371" y="412"/>
                  </a:lnTo>
                  <a:lnTo>
                    <a:pt x="276" y="419"/>
                  </a:lnTo>
                  <a:lnTo>
                    <a:pt x="193" y="419"/>
                  </a:lnTo>
                  <a:lnTo>
                    <a:pt x="120" y="419"/>
                  </a:lnTo>
                  <a:lnTo>
                    <a:pt x="65" y="412"/>
                  </a:lnTo>
                  <a:lnTo>
                    <a:pt x="25" y="405"/>
                  </a:lnTo>
                  <a:lnTo>
                    <a:pt x="0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27120" y="1974600"/>
              <a:ext cx="53280" cy="1221840"/>
            </a:xfrm>
            <a:custGeom>
              <a:avLst/>
              <a:gdLst/>
              <a:ahLst/>
              <a:rect l="l" t="t" r="r" b="b"/>
              <a:pathLst>
                <a:path w="84" h="1925">
                  <a:moveTo>
                    <a:pt x="80" y="0"/>
                  </a:moveTo>
                  <a:lnTo>
                    <a:pt x="84" y="296"/>
                  </a:lnTo>
                  <a:lnTo>
                    <a:pt x="84" y="949"/>
                  </a:lnTo>
                  <a:lnTo>
                    <a:pt x="69" y="1609"/>
                  </a:lnTo>
                  <a:lnTo>
                    <a:pt x="40" y="1925"/>
                  </a:lnTo>
                  <a:lnTo>
                    <a:pt x="36" y="1853"/>
                  </a:lnTo>
                  <a:lnTo>
                    <a:pt x="25" y="1666"/>
                  </a:lnTo>
                  <a:lnTo>
                    <a:pt x="11" y="1394"/>
                  </a:lnTo>
                  <a:lnTo>
                    <a:pt x="4" y="1075"/>
                  </a:lnTo>
                  <a:lnTo>
                    <a:pt x="0" y="741"/>
                  </a:lnTo>
                  <a:lnTo>
                    <a:pt x="11" y="428"/>
                  </a:lnTo>
                  <a:lnTo>
                    <a:pt x="33" y="17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714840" y="4250520"/>
              <a:ext cx="60120" cy="1545840"/>
            </a:xfrm>
            <a:custGeom>
              <a:avLst/>
              <a:gdLst/>
              <a:ahLst/>
              <a:rect l="l" t="t" r="r" b="b"/>
              <a:pathLst>
                <a:path w="95" h="2435">
                  <a:moveTo>
                    <a:pt x="77" y="2435"/>
                  </a:moveTo>
                  <a:lnTo>
                    <a:pt x="95" y="0"/>
                  </a:lnTo>
                  <a:lnTo>
                    <a:pt x="58" y="326"/>
                  </a:lnTo>
                  <a:lnTo>
                    <a:pt x="26" y="1170"/>
                  </a:lnTo>
                  <a:lnTo>
                    <a:pt x="8" y="2037"/>
                  </a:lnTo>
                  <a:lnTo>
                    <a:pt x="0" y="2435"/>
                  </a:lnTo>
                  <a:lnTo>
                    <a:pt x="77" y="24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823200" y="5070960"/>
              <a:ext cx="2019600" cy="781200"/>
            </a:xfrm>
            <a:custGeom>
              <a:avLst/>
              <a:gdLst/>
              <a:ahLst/>
              <a:rect l="l" t="t" r="r" b="b"/>
              <a:pathLst>
                <a:path w="3180" h="1231">
                  <a:moveTo>
                    <a:pt x="0" y="1231"/>
                  </a:moveTo>
                  <a:lnTo>
                    <a:pt x="3180" y="0"/>
                  </a:lnTo>
                  <a:lnTo>
                    <a:pt x="3172" y="0"/>
                  </a:lnTo>
                  <a:lnTo>
                    <a:pt x="3158" y="7"/>
                  </a:lnTo>
                  <a:lnTo>
                    <a:pt x="3129" y="14"/>
                  </a:lnTo>
                  <a:lnTo>
                    <a:pt x="3093" y="24"/>
                  </a:lnTo>
                  <a:lnTo>
                    <a:pt x="3045" y="38"/>
                  </a:lnTo>
                  <a:lnTo>
                    <a:pt x="2991" y="55"/>
                  </a:lnTo>
                  <a:lnTo>
                    <a:pt x="2929" y="75"/>
                  </a:lnTo>
                  <a:lnTo>
                    <a:pt x="2856" y="99"/>
                  </a:lnTo>
                  <a:lnTo>
                    <a:pt x="2776" y="123"/>
                  </a:lnTo>
                  <a:lnTo>
                    <a:pt x="2689" y="150"/>
                  </a:lnTo>
                  <a:lnTo>
                    <a:pt x="2595" y="180"/>
                  </a:lnTo>
                  <a:lnTo>
                    <a:pt x="2497" y="211"/>
                  </a:lnTo>
                  <a:lnTo>
                    <a:pt x="2391" y="245"/>
                  </a:lnTo>
                  <a:lnTo>
                    <a:pt x="2282" y="282"/>
                  </a:lnTo>
                  <a:lnTo>
                    <a:pt x="2166" y="320"/>
                  </a:lnTo>
                  <a:lnTo>
                    <a:pt x="2050" y="361"/>
                  </a:lnTo>
                  <a:lnTo>
                    <a:pt x="1926" y="405"/>
                  </a:lnTo>
                  <a:lnTo>
                    <a:pt x="1802" y="449"/>
                  </a:lnTo>
                  <a:lnTo>
                    <a:pt x="1675" y="497"/>
                  </a:lnTo>
                  <a:lnTo>
                    <a:pt x="1544" y="544"/>
                  </a:lnTo>
                  <a:lnTo>
                    <a:pt x="1414" y="595"/>
                  </a:lnTo>
                  <a:lnTo>
                    <a:pt x="1279" y="646"/>
                  </a:lnTo>
                  <a:lnTo>
                    <a:pt x="1148" y="697"/>
                  </a:lnTo>
                  <a:lnTo>
                    <a:pt x="1014" y="752"/>
                  </a:lnTo>
                  <a:lnTo>
                    <a:pt x="879" y="810"/>
                  </a:lnTo>
                  <a:lnTo>
                    <a:pt x="749" y="867"/>
                  </a:lnTo>
                  <a:lnTo>
                    <a:pt x="618" y="925"/>
                  </a:lnTo>
                  <a:lnTo>
                    <a:pt x="487" y="983"/>
                  </a:lnTo>
                  <a:lnTo>
                    <a:pt x="360" y="1044"/>
                  </a:lnTo>
                  <a:lnTo>
                    <a:pt x="236" y="1106"/>
                  </a:lnTo>
                  <a:lnTo>
                    <a:pt x="116" y="1167"/>
                  </a:lnTo>
                  <a:lnTo>
                    <a:pt x="0" y="1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815080" y="3645360"/>
              <a:ext cx="71640" cy="1360440"/>
            </a:xfrm>
            <a:custGeom>
              <a:avLst/>
              <a:gdLst/>
              <a:ahLst/>
              <a:rect l="l" t="t" r="r" b="b"/>
              <a:pathLst>
                <a:path w="113" h="2143">
                  <a:moveTo>
                    <a:pt x="91" y="0"/>
                  </a:moveTo>
                  <a:lnTo>
                    <a:pt x="84" y="92"/>
                  </a:lnTo>
                  <a:lnTo>
                    <a:pt x="66" y="330"/>
                  </a:lnTo>
                  <a:lnTo>
                    <a:pt x="44" y="670"/>
                  </a:lnTo>
                  <a:lnTo>
                    <a:pt x="22" y="1062"/>
                  </a:lnTo>
                  <a:lnTo>
                    <a:pt x="4" y="1453"/>
                  </a:lnTo>
                  <a:lnTo>
                    <a:pt x="0" y="1796"/>
                  </a:lnTo>
                  <a:lnTo>
                    <a:pt x="7" y="2041"/>
                  </a:lnTo>
                  <a:lnTo>
                    <a:pt x="40" y="2143"/>
                  </a:lnTo>
                  <a:lnTo>
                    <a:pt x="44" y="2055"/>
                  </a:lnTo>
                  <a:lnTo>
                    <a:pt x="58" y="1817"/>
                  </a:lnTo>
                  <a:lnTo>
                    <a:pt x="73" y="1476"/>
                  </a:lnTo>
                  <a:lnTo>
                    <a:pt x="91" y="1089"/>
                  </a:lnTo>
                  <a:lnTo>
                    <a:pt x="105" y="698"/>
                  </a:lnTo>
                  <a:lnTo>
                    <a:pt x="113" y="354"/>
                  </a:lnTo>
                  <a:lnTo>
                    <a:pt x="109" y="106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312440" y="4103280"/>
              <a:ext cx="81360" cy="1492560"/>
            </a:xfrm>
            <a:custGeom>
              <a:avLst/>
              <a:gdLst/>
              <a:ahLst/>
              <a:rect l="l" t="t" r="r" b="b"/>
              <a:pathLst>
                <a:path w="128" h="2351">
                  <a:moveTo>
                    <a:pt x="40" y="0"/>
                  </a:moveTo>
                  <a:lnTo>
                    <a:pt x="44" y="364"/>
                  </a:lnTo>
                  <a:lnTo>
                    <a:pt x="48" y="1164"/>
                  </a:lnTo>
                  <a:lnTo>
                    <a:pt x="40" y="1970"/>
                  </a:lnTo>
                  <a:lnTo>
                    <a:pt x="0" y="2351"/>
                  </a:lnTo>
                  <a:lnTo>
                    <a:pt x="11" y="2279"/>
                  </a:lnTo>
                  <a:lnTo>
                    <a:pt x="37" y="2092"/>
                  </a:lnTo>
                  <a:lnTo>
                    <a:pt x="73" y="1806"/>
                  </a:lnTo>
                  <a:lnTo>
                    <a:pt x="106" y="1460"/>
                  </a:lnTo>
                  <a:lnTo>
                    <a:pt x="128" y="1079"/>
                  </a:lnTo>
                  <a:lnTo>
                    <a:pt x="128" y="687"/>
                  </a:lnTo>
                  <a:lnTo>
                    <a:pt x="102" y="32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82800" y="3783960"/>
              <a:ext cx="55080" cy="1414440"/>
            </a:xfrm>
            <a:custGeom>
              <a:avLst/>
              <a:gdLst/>
              <a:ahLst/>
              <a:rect l="l" t="t" r="r" b="b"/>
              <a:pathLst>
                <a:path w="87" h="2228">
                  <a:moveTo>
                    <a:pt x="73" y="0"/>
                  </a:moveTo>
                  <a:lnTo>
                    <a:pt x="76" y="92"/>
                  </a:lnTo>
                  <a:lnTo>
                    <a:pt x="80" y="337"/>
                  </a:lnTo>
                  <a:lnTo>
                    <a:pt x="83" y="680"/>
                  </a:lnTo>
                  <a:lnTo>
                    <a:pt x="87" y="1082"/>
                  </a:lnTo>
                  <a:lnTo>
                    <a:pt x="83" y="1483"/>
                  </a:lnTo>
                  <a:lnTo>
                    <a:pt x="73" y="1843"/>
                  </a:lnTo>
                  <a:lnTo>
                    <a:pt x="51" y="2105"/>
                  </a:lnTo>
                  <a:lnTo>
                    <a:pt x="14" y="2228"/>
                  </a:lnTo>
                  <a:lnTo>
                    <a:pt x="11" y="2146"/>
                  </a:lnTo>
                  <a:lnTo>
                    <a:pt x="7" y="1922"/>
                  </a:lnTo>
                  <a:lnTo>
                    <a:pt x="3" y="1602"/>
                  </a:lnTo>
                  <a:lnTo>
                    <a:pt x="0" y="1228"/>
                  </a:lnTo>
                  <a:lnTo>
                    <a:pt x="3" y="837"/>
                  </a:lnTo>
                  <a:lnTo>
                    <a:pt x="14" y="476"/>
                  </a:lnTo>
                  <a:lnTo>
                    <a:pt x="36" y="184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61400" y="4643640"/>
              <a:ext cx="1104840" cy="356040"/>
            </a:xfrm>
            <a:custGeom>
              <a:avLst/>
              <a:gdLst/>
              <a:ahLst/>
              <a:rect l="l" t="t" r="r" b="b"/>
              <a:pathLst>
                <a:path w="1740" h="561">
                  <a:moveTo>
                    <a:pt x="0" y="544"/>
                  </a:moveTo>
                  <a:lnTo>
                    <a:pt x="14" y="537"/>
                  </a:lnTo>
                  <a:lnTo>
                    <a:pt x="58" y="520"/>
                  </a:lnTo>
                  <a:lnTo>
                    <a:pt x="127" y="493"/>
                  </a:lnTo>
                  <a:lnTo>
                    <a:pt x="214" y="459"/>
                  </a:lnTo>
                  <a:lnTo>
                    <a:pt x="323" y="418"/>
                  </a:lnTo>
                  <a:lnTo>
                    <a:pt x="447" y="370"/>
                  </a:lnTo>
                  <a:lnTo>
                    <a:pt x="578" y="323"/>
                  </a:lnTo>
                  <a:lnTo>
                    <a:pt x="719" y="272"/>
                  </a:lnTo>
                  <a:lnTo>
                    <a:pt x="865" y="221"/>
                  </a:lnTo>
                  <a:lnTo>
                    <a:pt x="1014" y="173"/>
                  </a:lnTo>
                  <a:lnTo>
                    <a:pt x="1159" y="126"/>
                  </a:lnTo>
                  <a:lnTo>
                    <a:pt x="1301" y="85"/>
                  </a:lnTo>
                  <a:lnTo>
                    <a:pt x="1432" y="51"/>
                  </a:lnTo>
                  <a:lnTo>
                    <a:pt x="1551" y="24"/>
                  </a:lnTo>
                  <a:lnTo>
                    <a:pt x="1653" y="7"/>
                  </a:lnTo>
                  <a:lnTo>
                    <a:pt x="1740" y="0"/>
                  </a:lnTo>
                  <a:lnTo>
                    <a:pt x="1722" y="7"/>
                  </a:lnTo>
                  <a:lnTo>
                    <a:pt x="1668" y="30"/>
                  </a:lnTo>
                  <a:lnTo>
                    <a:pt x="1581" y="61"/>
                  </a:lnTo>
                  <a:lnTo>
                    <a:pt x="1471" y="105"/>
                  </a:lnTo>
                  <a:lnTo>
                    <a:pt x="1341" y="156"/>
                  </a:lnTo>
                  <a:lnTo>
                    <a:pt x="1195" y="211"/>
                  </a:lnTo>
                  <a:lnTo>
                    <a:pt x="1039" y="268"/>
                  </a:lnTo>
                  <a:lnTo>
                    <a:pt x="876" y="326"/>
                  </a:lnTo>
                  <a:lnTo>
                    <a:pt x="716" y="381"/>
                  </a:lnTo>
                  <a:lnTo>
                    <a:pt x="559" y="435"/>
                  </a:lnTo>
                  <a:lnTo>
                    <a:pt x="410" y="483"/>
                  </a:lnTo>
                  <a:lnTo>
                    <a:pt x="280" y="520"/>
                  </a:lnTo>
                  <a:lnTo>
                    <a:pt x="167" y="547"/>
                  </a:lnTo>
                  <a:lnTo>
                    <a:pt x="80" y="561"/>
                  </a:lnTo>
                  <a:lnTo>
                    <a:pt x="22" y="561"/>
                  </a:lnTo>
                  <a:lnTo>
                    <a:pt x="0" y="5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38760" y="5015160"/>
              <a:ext cx="48240" cy="185040"/>
            </a:xfrm>
            <a:custGeom>
              <a:avLst/>
              <a:gdLst/>
              <a:ahLst/>
              <a:rect l="l" t="t" r="r" b="b"/>
              <a:pathLst>
                <a:path w="76" h="292">
                  <a:moveTo>
                    <a:pt x="0" y="0"/>
                  </a:moveTo>
                  <a:lnTo>
                    <a:pt x="65" y="292"/>
                  </a:lnTo>
                  <a:lnTo>
                    <a:pt x="69" y="282"/>
                  </a:lnTo>
                  <a:lnTo>
                    <a:pt x="73" y="258"/>
                  </a:lnTo>
                  <a:lnTo>
                    <a:pt x="76" y="221"/>
                  </a:lnTo>
                  <a:lnTo>
                    <a:pt x="76" y="177"/>
                  </a:lnTo>
                  <a:lnTo>
                    <a:pt x="73" y="129"/>
                  </a:lnTo>
                  <a:lnTo>
                    <a:pt x="58" y="81"/>
                  </a:lnTo>
                  <a:lnTo>
                    <a:pt x="36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87000" y="5006160"/>
              <a:ext cx="113040" cy="127440"/>
            </a:xfrm>
            <a:custGeom>
              <a:avLst/>
              <a:gdLst/>
              <a:ahLst/>
              <a:rect l="l" t="t" r="r" b="b"/>
              <a:pathLst>
                <a:path w="178" h="201">
                  <a:moveTo>
                    <a:pt x="0" y="0"/>
                  </a:moveTo>
                  <a:lnTo>
                    <a:pt x="8" y="4"/>
                  </a:lnTo>
                  <a:lnTo>
                    <a:pt x="26" y="17"/>
                  </a:lnTo>
                  <a:lnTo>
                    <a:pt x="51" y="34"/>
                  </a:lnTo>
                  <a:lnTo>
                    <a:pt x="80" y="61"/>
                  </a:lnTo>
                  <a:lnTo>
                    <a:pt x="109" y="92"/>
                  </a:lnTo>
                  <a:lnTo>
                    <a:pt x="138" y="126"/>
                  </a:lnTo>
                  <a:lnTo>
                    <a:pt x="164" y="163"/>
                  </a:lnTo>
                  <a:lnTo>
                    <a:pt x="178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29120" y="4863960"/>
              <a:ext cx="361800" cy="146520"/>
            </a:xfrm>
            <a:custGeom>
              <a:avLst/>
              <a:gdLst/>
              <a:ahLst/>
              <a:rect l="l" t="t" r="r" b="b"/>
              <a:pathLst>
                <a:path w="570" h="231">
                  <a:moveTo>
                    <a:pt x="0" y="173"/>
                  </a:moveTo>
                  <a:lnTo>
                    <a:pt x="443" y="0"/>
                  </a:lnTo>
                  <a:lnTo>
                    <a:pt x="447" y="6"/>
                  </a:lnTo>
                  <a:lnTo>
                    <a:pt x="461" y="23"/>
                  </a:lnTo>
                  <a:lnTo>
                    <a:pt x="479" y="51"/>
                  </a:lnTo>
                  <a:lnTo>
                    <a:pt x="501" y="81"/>
                  </a:lnTo>
                  <a:lnTo>
                    <a:pt x="523" y="119"/>
                  </a:lnTo>
                  <a:lnTo>
                    <a:pt x="541" y="156"/>
                  </a:lnTo>
                  <a:lnTo>
                    <a:pt x="559" y="197"/>
                  </a:lnTo>
                  <a:lnTo>
                    <a:pt x="570" y="231"/>
                  </a:lnTo>
                  <a:lnTo>
                    <a:pt x="399" y="64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30640" y="5058360"/>
              <a:ext cx="246240" cy="103320"/>
            </a:xfrm>
            <a:custGeom>
              <a:avLst/>
              <a:gdLst/>
              <a:ahLst/>
              <a:rect l="l" t="t" r="r" b="b"/>
              <a:pathLst>
                <a:path w="388" h="163">
                  <a:moveTo>
                    <a:pt x="0" y="163"/>
                  </a:moveTo>
                  <a:lnTo>
                    <a:pt x="14" y="160"/>
                  </a:lnTo>
                  <a:lnTo>
                    <a:pt x="58" y="149"/>
                  </a:lnTo>
                  <a:lnTo>
                    <a:pt x="116" y="132"/>
                  </a:lnTo>
                  <a:lnTo>
                    <a:pt x="185" y="112"/>
                  </a:lnTo>
                  <a:lnTo>
                    <a:pt x="258" y="85"/>
                  </a:lnTo>
                  <a:lnTo>
                    <a:pt x="319" y="58"/>
                  </a:lnTo>
                  <a:lnTo>
                    <a:pt x="367" y="30"/>
                  </a:lnTo>
                  <a:lnTo>
                    <a:pt x="388" y="0"/>
                  </a:lnTo>
                  <a:lnTo>
                    <a:pt x="370" y="3"/>
                  </a:lnTo>
                  <a:lnTo>
                    <a:pt x="327" y="17"/>
                  </a:lnTo>
                  <a:lnTo>
                    <a:pt x="261" y="37"/>
                  </a:lnTo>
                  <a:lnTo>
                    <a:pt x="189" y="61"/>
                  </a:lnTo>
                  <a:lnTo>
                    <a:pt x="120" y="88"/>
                  </a:lnTo>
                  <a:lnTo>
                    <a:pt x="54" y="115"/>
                  </a:lnTo>
                  <a:lnTo>
                    <a:pt x="14" y="14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15080" y="5168160"/>
              <a:ext cx="80640" cy="45360"/>
            </a:xfrm>
            <a:custGeom>
              <a:avLst/>
              <a:gdLst/>
              <a:ahLst/>
              <a:rect l="l" t="t" r="r" b="b"/>
              <a:pathLst>
                <a:path w="127" h="72">
                  <a:moveTo>
                    <a:pt x="0" y="41"/>
                  </a:moveTo>
                  <a:lnTo>
                    <a:pt x="127" y="0"/>
                  </a:lnTo>
                  <a:lnTo>
                    <a:pt x="123" y="7"/>
                  </a:lnTo>
                  <a:lnTo>
                    <a:pt x="113" y="17"/>
                  </a:lnTo>
                  <a:lnTo>
                    <a:pt x="98" y="34"/>
                  </a:lnTo>
                  <a:lnTo>
                    <a:pt x="76" y="51"/>
                  </a:lnTo>
                  <a:lnTo>
                    <a:pt x="54" y="65"/>
                  </a:lnTo>
                  <a:lnTo>
                    <a:pt x="36" y="72"/>
                  </a:lnTo>
                  <a:lnTo>
                    <a:pt x="14" y="65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62320" y="4993560"/>
              <a:ext cx="106560" cy="36720"/>
            </a:xfrm>
            <a:custGeom>
              <a:avLst/>
              <a:gdLst/>
              <a:ahLst/>
              <a:rect l="l" t="t" r="r" b="b"/>
              <a:pathLst>
                <a:path w="168" h="58">
                  <a:moveTo>
                    <a:pt x="0" y="58"/>
                  </a:moveTo>
                  <a:lnTo>
                    <a:pt x="0" y="54"/>
                  </a:lnTo>
                  <a:lnTo>
                    <a:pt x="4" y="41"/>
                  </a:lnTo>
                  <a:lnTo>
                    <a:pt x="8" y="27"/>
                  </a:lnTo>
                  <a:lnTo>
                    <a:pt x="19" y="13"/>
                  </a:lnTo>
                  <a:lnTo>
                    <a:pt x="40" y="3"/>
                  </a:lnTo>
                  <a:lnTo>
                    <a:pt x="70" y="0"/>
                  </a:lnTo>
                  <a:lnTo>
                    <a:pt x="113" y="7"/>
                  </a:lnTo>
                  <a:lnTo>
                    <a:pt x="168" y="27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46880" y="4086000"/>
              <a:ext cx="81360" cy="127440"/>
            </a:xfrm>
            <a:custGeom>
              <a:avLst/>
              <a:gdLst/>
              <a:ahLst/>
              <a:rect l="l" t="t" r="r" b="b"/>
              <a:pathLst>
                <a:path w="128" h="201">
                  <a:moveTo>
                    <a:pt x="128" y="0"/>
                  </a:moveTo>
                  <a:lnTo>
                    <a:pt x="117" y="4"/>
                  </a:lnTo>
                  <a:lnTo>
                    <a:pt x="91" y="10"/>
                  </a:lnTo>
                  <a:lnTo>
                    <a:pt x="62" y="24"/>
                  </a:lnTo>
                  <a:lnTo>
                    <a:pt x="29" y="44"/>
                  </a:lnTo>
                  <a:lnTo>
                    <a:pt x="8" y="72"/>
                  </a:lnTo>
                  <a:lnTo>
                    <a:pt x="0" y="109"/>
                  </a:lnTo>
                  <a:lnTo>
                    <a:pt x="19" y="150"/>
                  </a:lnTo>
                  <a:lnTo>
                    <a:pt x="69" y="201"/>
                  </a:lnTo>
                  <a:lnTo>
                    <a:pt x="66" y="194"/>
                  </a:lnTo>
                  <a:lnTo>
                    <a:pt x="62" y="174"/>
                  </a:lnTo>
                  <a:lnTo>
                    <a:pt x="59" y="143"/>
                  </a:lnTo>
                  <a:lnTo>
                    <a:pt x="59" y="109"/>
                  </a:lnTo>
                  <a:lnTo>
                    <a:pt x="62" y="75"/>
                  </a:lnTo>
                  <a:lnTo>
                    <a:pt x="73" y="44"/>
                  </a:lnTo>
                  <a:lnTo>
                    <a:pt x="95" y="17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734720" y="4041000"/>
              <a:ext cx="445680" cy="124920"/>
            </a:xfrm>
            <a:custGeom>
              <a:avLst/>
              <a:gdLst/>
              <a:ahLst/>
              <a:rect l="l" t="t" r="r" b="b"/>
              <a:pathLst>
                <a:path w="702" h="197">
                  <a:moveTo>
                    <a:pt x="0" y="177"/>
                  </a:moveTo>
                  <a:lnTo>
                    <a:pt x="4" y="177"/>
                  </a:lnTo>
                  <a:lnTo>
                    <a:pt x="22" y="180"/>
                  </a:lnTo>
                  <a:lnTo>
                    <a:pt x="44" y="183"/>
                  </a:lnTo>
                  <a:lnTo>
                    <a:pt x="77" y="190"/>
                  </a:lnTo>
                  <a:lnTo>
                    <a:pt x="113" y="194"/>
                  </a:lnTo>
                  <a:lnTo>
                    <a:pt x="160" y="197"/>
                  </a:lnTo>
                  <a:lnTo>
                    <a:pt x="208" y="197"/>
                  </a:lnTo>
                  <a:lnTo>
                    <a:pt x="262" y="194"/>
                  </a:lnTo>
                  <a:lnTo>
                    <a:pt x="317" y="190"/>
                  </a:lnTo>
                  <a:lnTo>
                    <a:pt x="375" y="180"/>
                  </a:lnTo>
                  <a:lnTo>
                    <a:pt x="433" y="166"/>
                  </a:lnTo>
                  <a:lnTo>
                    <a:pt x="491" y="149"/>
                  </a:lnTo>
                  <a:lnTo>
                    <a:pt x="549" y="122"/>
                  </a:lnTo>
                  <a:lnTo>
                    <a:pt x="604" y="88"/>
                  </a:lnTo>
                  <a:lnTo>
                    <a:pt x="655" y="47"/>
                  </a:lnTo>
                  <a:lnTo>
                    <a:pt x="702" y="0"/>
                  </a:lnTo>
                  <a:lnTo>
                    <a:pt x="698" y="0"/>
                  </a:lnTo>
                  <a:lnTo>
                    <a:pt x="687" y="7"/>
                  </a:lnTo>
                  <a:lnTo>
                    <a:pt x="669" y="13"/>
                  </a:lnTo>
                  <a:lnTo>
                    <a:pt x="647" y="20"/>
                  </a:lnTo>
                  <a:lnTo>
                    <a:pt x="618" y="30"/>
                  </a:lnTo>
                  <a:lnTo>
                    <a:pt x="582" y="44"/>
                  </a:lnTo>
                  <a:lnTo>
                    <a:pt x="542" y="58"/>
                  </a:lnTo>
                  <a:lnTo>
                    <a:pt x="498" y="71"/>
                  </a:lnTo>
                  <a:lnTo>
                    <a:pt x="447" y="85"/>
                  </a:lnTo>
                  <a:lnTo>
                    <a:pt x="397" y="98"/>
                  </a:lnTo>
                  <a:lnTo>
                    <a:pt x="338" y="115"/>
                  </a:lnTo>
                  <a:lnTo>
                    <a:pt x="277" y="129"/>
                  </a:lnTo>
                  <a:lnTo>
                    <a:pt x="211" y="143"/>
                  </a:lnTo>
                  <a:lnTo>
                    <a:pt x="142" y="156"/>
                  </a:lnTo>
                  <a:lnTo>
                    <a:pt x="73" y="166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87600" y="3971880"/>
              <a:ext cx="73440" cy="109800"/>
            </a:xfrm>
            <a:custGeom>
              <a:avLst/>
              <a:gdLst/>
              <a:ahLst/>
              <a:rect l="l" t="t" r="r" b="b"/>
              <a:pathLst>
                <a:path w="116" h="173">
                  <a:moveTo>
                    <a:pt x="0" y="0"/>
                  </a:moveTo>
                  <a:lnTo>
                    <a:pt x="7" y="3"/>
                  </a:lnTo>
                  <a:lnTo>
                    <a:pt x="25" y="17"/>
                  </a:lnTo>
                  <a:lnTo>
                    <a:pt x="51" y="37"/>
                  </a:lnTo>
                  <a:lnTo>
                    <a:pt x="76" y="65"/>
                  </a:lnTo>
                  <a:lnTo>
                    <a:pt x="98" y="92"/>
                  </a:lnTo>
                  <a:lnTo>
                    <a:pt x="109" y="119"/>
                  </a:lnTo>
                  <a:lnTo>
                    <a:pt x="101" y="150"/>
                  </a:lnTo>
                  <a:lnTo>
                    <a:pt x="72" y="173"/>
                  </a:lnTo>
                  <a:lnTo>
                    <a:pt x="80" y="167"/>
                  </a:lnTo>
                  <a:lnTo>
                    <a:pt x="91" y="150"/>
                  </a:lnTo>
                  <a:lnTo>
                    <a:pt x="105" y="122"/>
                  </a:lnTo>
                  <a:lnTo>
                    <a:pt x="116" y="95"/>
                  </a:lnTo>
                  <a:lnTo>
                    <a:pt x="116" y="65"/>
                  </a:lnTo>
                  <a:lnTo>
                    <a:pt x="101" y="34"/>
                  </a:lnTo>
                  <a:lnTo>
                    <a:pt x="65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06720" y="2442960"/>
              <a:ext cx="610920" cy="168120"/>
            </a:xfrm>
            <a:custGeom>
              <a:avLst/>
              <a:gdLst/>
              <a:ahLst/>
              <a:rect l="l" t="t" r="r" b="b"/>
              <a:pathLst>
                <a:path w="962" h="265">
                  <a:moveTo>
                    <a:pt x="0" y="0"/>
                  </a:moveTo>
                  <a:lnTo>
                    <a:pt x="962" y="119"/>
                  </a:lnTo>
                  <a:lnTo>
                    <a:pt x="948" y="265"/>
                  </a:lnTo>
                  <a:lnTo>
                    <a:pt x="904" y="1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761920" y="2199240"/>
              <a:ext cx="1869120" cy="319320"/>
            </a:xfrm>
            <a:custGeom>
              <a:avLst/>
              <a:gdLst/>
              <a:ahLst/>
              <a:rect l="l" t="t" r="r" b="b"/>
              <a:pathLst>
                <a:path w="2943" h="503">
                  <a:moveTo>
                    <a:pt x="0" y="489"/>
                  </a:moveTo>
                  <a:lnTo>
                    <a:pt x="2943" y="0"/>
                  </a:lnTo>
                  <a:lnTo>
                    <a:pt x="2936" y="3"/>
                  </a:lnTo>
                  <a:lnTo>
                    <a:pt x="2914" y="6"/>
                  </a:lnTo>
                  <a:lnTo>
                    <a:pt x="2881" y="13"/>
                  </a:lnTo>
                  <a:lnTo>
                    <a:pt x="2834" y="23"/>
                  </a:lnTo>
                  <a:lnTo>
                    <a:pt x="2776" y="37"/>
                  </a:lnTo>
                  <a:lnTo>
                    <a:pt x="2707" y="54"/>
                  </a:lnTo>
                  <a:lnTo>
                    <a:pt x="2627" y="71"/>
                  </a:lnTo>
                  <a:lnTo>
                    <a:pt x="2540" y="91"/>
                  </a:lnTo>
                  <a:lnTo>
                    <a:pt x="2445" y="112"/>
                  </a:lnTo>
                  <a:lnTo>
                    <a:pt x="2343" y="136"/>
                  </a:lnTo>
                  <a:lnTo>
                    <a:pt x="2234" y="159"/>
                  </a:lnTo>
                  <a:lnTo>
                    <a:pt x="2122" y="183"/>
                  </a:lnTo>
                  <a:lnTo>
                    <a:pt x="2002" y="207"/>
                  </a:lnTo>
                  <a:lnTo>
                    <a:pt x="1878" y="234"/>
                  </a:lnTo>
                  <a:lnTo>
                    <a:pt x="1751" y="258"/>
                  </a:lnTo>
                  <a:lnTo>
                    <a:pt x="1624" y="285"/>
                  </a:lnTo>
                  <a:lnTo>
                    <a:pt x="1497" y="309"/>
                  </a:lnTo>
                  <a:lnTo>
                    <a:pt x="1366" y="333"/>
                  </a:lnTo>
                  <a:lnTo>
                    <a:pt x="1239" y="357"/>
                  </a:lnTo>
                  <a:lnTo>
                    <a:pt x="1111" y="380"/>
                  </a:lnTo>
                  <a:lnTo>
                    <a:pt x="988" y="401"/>
                  </a:lnTo>
                  <a:lnTo>
                    <a:pt x="864" y="421"/>
                  </a:lnTo>
                  <a:lnTo>
                    <a:pt x="744" y="442"/>
                  </a:lnTo>
                  <a:lnTo>
                    <a:pt x="632" y="459"/>
                  </a:lnTo>
                  <a:lnTo>
                    <a:pt x="526" y="472"/>
                  </a:lnTo>
                  <a:lnTo>
                    <a:pt x="425" y="483"/>
                  </a:lnTo>
                  <a:lnTo>
                    <a:pt x="330" y="493"/>
                  </a:lnTo>
                  <a:lnTo>
                    <a:pt x="243" y="500"/>
                  </a:lnTo>
                  <a:lnTo>
                    <a:pt x="167" y="503"/>
                  </a:lnTo>
                  <a:lnTo>
                    <a:pt x="101" y="500"/>
                  </a:lnTo>
                  <a:lnTo>
                    <a:pt x="43" y="496"/>
                  </a:lnTo>
                  <a:lnTo>
                    <a:pt x="0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00040" y="2114640"/>
              <a:ext cx="521280" cy="51840"/>
            </a:xfrm>
            <a:custGeom>
              <a:avLst/>
              <a:gdLst/>
              <a:ahLst/>
              <a:rect l="l" t="t" r="r" b="b"/>
              <a:pathLst>
                <a:path w="821" h="82">
                  <a:moveTo>
                    <a:pt x="821" y="68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22" y="3"/>
                  </a:lnTo>
                  <a:lnTo>
                    <a:pt x="47" y="10"/>
                  </a:lnTo>
                  <a:lnTo>
                    <a:pt x="84" y="17"/>
                  </a:lnTo>
                  <a:lnTo>
                    <a:pt x="127" y="27"/>
                  </a:lnTo>
                  <a:lnTo>
                    <a:pt x="178" y="34"/>
                  </a:lnTo>
                  <a:lnTo>
                    <a:pt x="233" y="44"/>
                  </a:lnTo>
                  <a:lnTo>
                    <a:pt x="295" y="54"/>
                  </a:lnTo>
                  <a:lnTo>
                    <a:pt x="356" y="61"/>
                  </a:lnTo>
                  <a:lnTo>
                    <a:pt x="425" y="68"/>
                  </a:lnTo>
                  <a:lnTo>
                    <a:pt x="491" y="75"/>
                  </a:lnTo>
                  <a:lnTo>
                    <a:pt x="560" y="78"/>
                  </a:lnTo>
                  <a:lnTo>
                    <a:pt x="629" y="82"/>
                  </a:lnTo>
                  <a:lnTo>
                    <a:pt x="698" y="78"/>
                  </a:lnTo>
                  <a:lnTo>
                    <a:pt x="760" y="75"/>
                  </a:lnTo>
                  <a:lnTo>
                    <a:pt x="821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143440" y="2140920"/>
              <a:ext cx="1919880" cy="269640"/>
            </a:xfrm>
            <a:custGeom>
              <a:avLst/>
              <a:gdLst/>
              <a:ahLst/>
              <a:rect l="l" t="t" r="r" b="b"/>
              <a:pathLst>
                <a:path w="3023" h="425">
                  <a:moveTo>
                    <a:pt x="0" y="421"/>
                  </a:moveTo>
                  <a:lnTo>
                    <a:pt x="3023" y="0"/>
                  </a:lnTo>
                  <a:lnTo>
                    <a:pt x="3016" y="0"/>
                  </a:lnTo>
                  <a:lnTo>
                    <a:pt x="2994" y="7"/>
                  </a:lnTo>
                  <a:lnTo>
                    <a:pt x="2958" y="10"/>
                  </a:lnTo>
                  <a:lnTo>
                    <a:pt x="2907" y="20"/>
                  </a:lnTo>
                  <a:lnTo>
                    <a:pt x="2849" y="30"/>
                  </a:lnTo>
                  <a:lnTo>
                    <a:pt x="2776" y="44"/>
                  </a:lnTo>
                  <a:lnTo>
                    <a:pt x="2692" y="58"/>
                  </a:lnTo>
                  <a:lnTo>
                    <a:pt x="2601" y="75"/>
                  </a:lnTo>
                  <a:lnTo>
                    <a:pt x="2503" y="92"/>
                  </a:lnTo>
                  <a:lnTo>
                    <a:pt x="2394" y="109"/>
                  </a:lnTo>
                  <a:lnTo>
                    <a:pt x="2282" y="129"/>
                  </a:lnTo>
                  <a:lnTo>
                    <a:pt x="2162" y="146"/>
                  </a:lnTo>
                  <a:lnTo>
                    <a:pt x="2038" y="166"/>
                  </a:lnTo>
                  <a:lnTo>
                    <a:pt x="1911" y="190"/>
                  </a:lnTo>
                  <a:lnTo>
                    <a:pt x="1780" y="211"/>
                  </a:lnTo>
                  <a:lnTo>
                    <a:pt x="1649" y="231"/>
                  </a:lnTo>
                  <a:lnTo>
                    <a:pt x="1515" y="251"/>
                  </a:lnTo>
                  <a:lnTo>
                    <a:pt x="1381" y="272"/>
                  </a:lnTo>
                  <a:lnTo>
                    <a:pt x="1250" y="292"/>
                  </a:lnTo>
                  <a:lnTo>
                    <a:pt x="1119" y="313"/>
                  </a:lnTo>
                  <a:lnTo>
                    <a:pt x="988" y="330"/>
                  </a:lnTo>
                  <a:lnTo>
                    <a:pt x="865" y="347"/>
                  </a:lnTo>
                  <a:lnTo>
                    <a:pt x="741" y="364"/>
                  </a:lnTo>
                  <a:lnTo>
                    <a:pt x="628" y="377"/>
                  </a:lnTo>
                  <a:lnTo>
                    <a:pt x="516" y="391"/>
                  </a:lnTo>
                  <a:lnTo>
                    <a:pt x="414" y="401"/>
                  </a:lnTo>
                  <a:lnTo>
                    <a:pt x="319" y="411"/>
                  </a:lnTo>
                  <a:lnTo>
                    <a:pt x="236" y="418"/>
                  </a:lnTo>
                  <a:lnTo>
                    <a:pt x="160" y="425"/>
                  </a:lnTo>
                  <a:lnTo>
                    <a:pt x="94" y="425"/>
                  </a:lnTo>
                  <a:lnTo>
                    <a:pt x="40" y="425"/>
                  </a:lnTo>
                  <a:lnTo>
                    <a:pt x="0" y="4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780640" y="2274840"/>
              <a:ext cx="1859400" cy="349560"/>
            </a:xfrm>
            <a:custGeom>
              <a:avLst/>
              <a:gdLst/>
              <a:ahLst/>
              <a:rect l="l" t="t" r="r" b="b"/>
              <a:pathLst>
                <a:path w="2928" h="551">
                  <a:moveTo>
                    <a:pt x="0" y="530"/>
                  </a:moveTo>
                  <a:lnTo>
                    <a:pt x="7" y="530"/>
                  </a:lnTo>
                  <a:lnTo>
                    <a:pt x="32" y="523"/>
                  </a:lnTo>
                  <a:lnTo>
                    <a:pt x="72" y="517"/>
                  </a:lnTo>
                  <a:lnTo>
                    <a:pt x="127" y="506"/>
                  </a:lnTo>
                  <a:lnTo>
                    <a:pt x="192" y="496"/>
                  </a:lnTo>
                  <a:lnTo>
                    <a:pt x="272" y="479"/>
                  </a:lnTo>
                  <a:lnTo>
                    <a:pt x="359" y="462"/>
                  </a:lnTo>
                  <a:lnTo>
                    <a:pt x="461" y="445"/>
                  </a:lnTo>
                  <a:lnTo>
                    <a:pt x="566" y="425"/>
                  </a:lnTo>
                  <a:lnTo>
                    <a:pt x="683" y="404"/>
                  </a:lnTo>
                  <a:lnTo>
                    <a:pt x="803" y="381"/>
                  </a:lnTo>
                  <a:lnTo>
                    <a:pt x="930" y="360"/>
                  </a:lnTo>
                  <a:lnTo>
                    <a:pt x="1061" y="336"/>
                  </a:lnTo>
                  <a:lnTo>
                    <a:pt x="1195" y="309"/>
                  </a:lnTo>
                  <a:lnTo>
                    <a:pt x="1333" y="285"/>
                  </a:lnTo>
                  <a:lnTo>
                    <a:pt x="1471" y="258"/>
                  </a:lnTo>
                  <a:lnTo>
                    <a:pt x="1606" y="234"/>
                  </a:lnTo>
                  <a:lnTo>
                    <a:pt x="1744" y="210"/>
                  </a:lnTo>
                  <a:lnTo>
                    <a:pt x="1878" y="187"/>
                  </a:lnTo>
                  <a:lnTo>
                    <a:pt x="2009" y="163"/>
                  </a:lnTo>
                  <a:lnTo>
                    <a:pt x="2136" y="139"/>
                  </a:lnTo>
                  <a:lnTo>
                    <a:pt x="2256" y="115"/>
                  </a:lnTo>
                  <a:lnTo>
                    <a:pt x="2369" y="95"/>
                  </a:lnTo>
                  <a:lnTo>
                    <a:pt x="2478" y="78"/>
                  </a:lnTo>
                  <a:lnTo>
                    <a:pt x="2576" y="61"/>
                  </a:lnTo>
                  <a:lnTo>
                    <a:pt x="2663" y="44"/>
                  </a:lnTo>
                  <a:lnTo>
                    <a:pt x="2740" y="30"/>
                  </a:lnTo>
                  <a:lnTo>
                    <a:pt x="2809" y="20"/>
                  </a:lnTo>
                  <a:lnTo>
                    <a:pt x="2859" y="10"/>
                  </a:lnTo>
                  <a:lnTo>
                    <a:pt x="2899" y="3"/>
                  </a:lnTo>
                  <a:lnTo>
                    <a:pt x="2921" y="0"/>
                  </a:lnTo>
                  <a:lnTo>
                    <a:pt x="2928" y="0"/>
                  </a:lnTo>
                  <a:lnTo>
                    <a:pt x="2921" y="3"/>
                  </a:lnTo>
                  <a:lnTo>
                    <a:pt x="2896" y="6"/>
                  </a:lnTo>
                  <a:lnTo>
                    <a:pt x="2859" y="17"/>
                  </a:lnTo>
                  <a:lnTo>
                    <a:pt x="2805" y="27"/>
                  </a:lnTo>
                  <a:lnTo>
                    <a:pt x="2743" y="44"/>
                  </a:lnTo>
                  <a:lnTo>
                    <a:pt x="2667" y="61"/>
                  </a:lnTo>
                  <a:lnTo>
                    <a:pt x="2580" y="81"/>
                  </a:lnTo>
                  <a:lnTo>
                    <a:pt x="2485" y="102"/>
                  </a:lnTo>
                  <a:lnTo>
                    <a:pt x="2380" y="125"/>
                  </a:lnTo>
                  <a:lnTo>
                    <a:pt x="2267" y="153"/>
                  </a:lnTo>
                  <a:lnTo>
                    <a:pt x="2151" y="180"/>
                  </a:lnTo>
                  <a:lnTo>
                    <a:pt x="2027" y="207"/>
                  </a:lnTo>
                  <a:lnTo>
                    <a:pt x="1900" y="234"/>
                  </a:lnTo>
                  <a:lnTo>
                    <a:pt x="1769" y="261"/>
                  </a:lnTo>
                  <a:lnTo>
                    <a:pt x="1635" y="292"/>
                  </a:lnTo>
                  <a:lnTo>
                    <a:pt x="1500" y="319"/>
                  </a:lnTo>
                  <a:lnTo>
                    <a:pt x="1366" y="347"/>
                  </a:lnTo>
                  <a:lnTo>
                    <a:pt x="1231" y="374"/>
                  </a:lnTo>
                  <a:lnTo>
                    <a:pt x="1101" y="401"/>
                  </a:lnTo>
                  <a:lnTo>
                    <a:pt x="970" y="428"/>
                  </a:lnTo>
                  <a:lnTo>
                    <a:pt x="843" y="449"/>
                  </a:lnTo>
                  <a:lnTo>
                    <a:pt x="723" y="472"/>
                  </a:lnTo>
                  <a:lnTo>
                    <a:pt x="606" y="493"/>
                  </a:lnTo>
                  <a:lnTo>
                    <a:pt x="497" y="510"/>
                  </a:lnTo>
                  <a:lnTo>
                    <a:pt x="399" y="523"/>
                  </a:lnTo>
                  <a:lnTo>
                    <a:pt x="305" y="537"/>
                  </a:lnTo>
                  <a:lnTo>
                    <a:pt x="225" y="544"/>
                  </a:lnTo>
                  <a:lnTo>
                    <a:pt x="152" y="551"/>
                  </a:lnTo>
                  <a:lnTo>
                    <a:pt x="94" y="551"/>
                  </a:lnTo>
                  <a:lnTo>
                    <a:pt x="50" y="547"/>
                  </a:lnTo>
                  <a:lnTo>
                    <a:pt x="18" y="54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97000" y="2544840"/>
              <a:ext cx="574560" cy="99000"/>
            </a:xfrm>
            <a:custGeom>
              <a:avLst/>
              <a:gdLst/>
              <a:ahLst/>
              <a:rect l="l" t="t" r="r" b="b"/>
              <a:pathLst>
                <a:path w="905" h="156">
                  <a:moveTo>
                    <a:pt x="905" y="146"/>
                  </a:moveTo>
                  <a:lnTo>
                    <a:pt x="894" y="143"/>
                  </a:lnTo>
                  <a:lnTo>
                    <a:pt x="865" y="139"/>
                  </a:lnTo>
                  <a:lnTo>
                    <a:pt x="821" y="129"/>
                  </a:lnTo>
                  <a:lnTo>
                    <a:pt x="767" y="115"/>
                  </a:lnTo>
                  <a:lnTo>
                    <a:pt x="698" y="102"/>
                  </a:lnTo>
                  <a:lnTo>
                    <a:pt x="621" y="85"/>
                  </a:lnTo>
                  <a:lnTo>
                    <a:pt x="541" y="71"/>
                  </a:lnTo>
                  <a:lnTo>
                    <a:pt x="458" y="54"/>
                  </a:lnTo>
                  <a:lnTo>
                    <a:pt x="374" y="41"/>
                  </a:lnTo>
                  <a:lnTo>
                    <a:pt x="294" y="27"/>
                  </a:lnTo>
                  <a:lnTo>
                    <a:pt x="218" y="13"/>
                  </a:lnTo>
                  <a:lnTo>
                    <a:pt x="149" y="7"/>
                  </a:lnTo>
                  <a:lnTo>
                    <a:pt x="87" y="0"/>
                  </a:lnTo>
                  <a:lnTo>
                    <a:pt x="44" y="0"/>
                  </a:lnTo>
                  <a:lnTo>
                    <a:pt x="11" y="3"/>
                  </a:lnTo>
                  <a:lnTo>
                    <a:pt x="0" y="13"/>
                  </a:lnTo>
                  <a:lnTo>
                    <a:pt x="11" y="17"/>
                  </a:lnTo>
                  <a:lnTo>
                    <a:pt x="40" y="20"/>
                  </a:lnTo>
                  <a:lnTo>
                    <a:pt x="84" y="30"/>
                  </a:lnTo>
                  <a:lnTo>
                    <a:pt x="142" y="41"/>
                  </a:lnTo>
                  <a:lnTo>
                    <a:pt x="214" y="54"/>
                  </a:lnTo>
                  <a:lnTo>
                    <a:pt x="291" y="68"/>
                  </a:lnTo>
                  <a:lnTo>
                    <a:pt x="374" y="85"/>
                  </a:lnTo>
                  <a:lnTo>
                    <a:pt x="458" y="98"/>
                  </a:lnTo>
                  <a:lnTo>
                    <a:pt x="541" y="112"/>
                  </a:lnTo>
                  <a:lnTo>
                    <a:pt x="625" y="126"/>
                  </a:lnTo>
                  <a:lnTo>
                    <a:pt x="701" y="139"/>
                  </a:lnTo>
                  <a:lnTo>
                    <a:pt x="770" y="146"/>
                  </a:lnTo>
                  <a:lnTo>
                    <a:pt x="828" y="153"/>
                  </a:lnTo>
                  <a:lnTo>
                    <a:pt x="868" y="156"/>
                  </a:lnTo>
                  <a:lnTo>
                    <a:pt x="898" y="153"/>
                  </a:lnTo>
                  <a:lnTo>
                    <a:pt x="905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99520" y="2620080"/>
              <a:ext cx="329400" cy="1165680"/>
            </a:xfrm>
            <a:custGeom>
              <a:avLst/>
              <a:gdLst/>
              <a:ahLst/>
              <a:rect l="l" t="t" r="r" b="b"/>
              <a:pathLst>
                <a:path w="519" h="1836">
                  <a:moveTo>
                    <a:pt x="519" y="0"/>
                  </a:moveTo>
                  <a:lnTo>
                    <a:pt x="497" y="7"/>
                  </a:lnTo>
                  <a:lnTo>
                    <a:pt x="443" y="30"/>
                  </a:lnTo>
                  <a:lnTo>
                    <a:pt x="359" y="78"/>
                  </a:lnTo>
                  <a:lnTo>
                    <a:pt x="269" y="153"/>
                  </a:lnTo>
                  <a:lnTo>
                    <a:pt x="174" y="255"/>
                  </a:lnTo>
                  <a:lnTo>
                    <a:pt x="90" y="394"/>
                  </a:lnTo>
                  <a:lnTo>
                    <a:pt x="32" y="575"/>
                  </a:lnTo>
                  <a:lnTo>
                    <a:pt x="3" y="796"/>
                  </a:lnTo>
                  <a:lnTo>
                    <a:pt x="0" y="833"/>
                  </a:lnTo>
                  <a:lnTo>
                    <a:pt x="0" y="939"/>
                  </a:lnTo>
                  <a:lnTo>
                    <a:pt x="3" y="1088"/>
                  </a:lnTo>
                  <a:lnTo>
                    <a:pt x="29" y="1265"/>
                  </a:lnTo>
                  <a:lnTo>
                    <a:pt x="76" y="1445"/>
                  </a:lnTo>
                  <a:lnTo>
                    <a:pt x="159" y="1615"/>
                  </a:lnTo>
                  <a:lnTo>
                    <a:pt x="279" y="1751"/>
                  </a:lnTo>
                  <a:lnTo>
                    <a:pt x="454" y="1836"/>
                  </a:lnTo>
                  <a:lnTo>
                    <a:pt x="436" y="1826"/>
                  </a:lnTo>
                  <a:lnTo>
                    <a:pt x="388" y="1785"/>
                  </a:lnTo>
                  <a:lnTo>
                    <a:pt x="323" y="1714"/>
                  </a:lnTo>
                  <a:lnTo>
                    <a:pt x="250" y="1605"/>
                  </a:lnTo>
                  <a:lnTo>
                    <a:pt x="178" y="1449"/>
                  </a:lnTo>
                  <a:lnTo>
                    <a:pt x="116" y="1248"/>
                  </a:lnTo>
                  <a:lnTo>
                    <a:pt x="76" y="990"/>
                  </a:lnTo>
                  <a:lnTo>
                    <a:pt x="69" y="670"/>
                  </a:lnTo>
                  <a:lnTo>
                    <a:pt x="72" y="649"/>
                  </a:lnTo>
                  <a:lnTo>
                    <a:pt x="87" y="595"/>
                  </a:lnTo>
                  <a:lnTo>
                    <a:pt x="116" y="510"/>
                  </a:lnTo>
                  <a:lnTo>
                    <a:pt x="156" y="411"/>
                  </a:lnTo>
                  <a:lnTo>
                    <a:pt x="214" y="299"/>
                  </a:lnTo>
                  <a:lnTo>
                    <a:pt x="294" y="190"/>
                  </a:lnTo>
                  <a:lnTo>
                    <a:pt x="396" y="85"/>
                  </a:lnTo>
                  <a:lnTo>
                    <a:pt x="5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87600" y="2309040"/>
              <a:ext cx="281160" cy="990720"/>
            </a:xfrm>
            <a:custGeom>
              <a:avLst/>
              <a:gdLst/>
              <a:ahLst/>
              <a:rect l="l" t="t" r="r" b="b"/>
              <a:pathLst>
                <a:path w="443" h="1561">
                  <a:moveTo>
                    <a:pt x="443" y="0"/>
                  </a:moveTo>
                  <a:lnTo>
                    <a:pt x="425" y="7"/>
                  </a:lnTo>
                  <a:lnTo>
                    <a:pt x="377" y="24"/>
                  </a:lnTo>
                  <a:lnTo>
                    <a:pt x="308" y="61"/>
                  </a:lnTo>
                  <a:lnTo>
                    <a:pt x="228" y="122"/>
                  </a:lnTo>
                  <a:lnTo>
                    <a:pt x="148" y="211"/>
                  </a:lnTo>
                  <a:lnTo>
                    <a:pt x="79" y="327"/>
                  </a:lnTo>
                  <a:lnTo>
                    <a:pt x="25" y="480"/>
                  </a:lnTo>
                  <a:lnTo>
                    <a:pt x="3" y="673"/>
                  </a:lnTo>
                  <a:lnTo>
                    <a:pt x="0" y="707"/>
                  </a:lnTo>
                  <a:lnTo>
                    <a:pt x="0" y="796"/>
                  </a:lnTo>
                  <a:lnTo>
                    <a:pt x="3" y="922"/>
                  </a:lnTo>
                  <a:lnTo>
                    <a:pt x="25" y="1071"/>
                  </a:lnTo>
                  <a:lnTo>
                    <a:pt x="65" y="1228"/>
                  </a:lnTo>
                  <a:lnTo>
                    <a:pt x="134" y="1371"/>
                  </a:lnTo>
                  <a:lnTo>
                    <a:pt x="239" y="1490"/>
                  </a:lnTo>
                  <a:lnTo>
                    <a:pt x="385" y="1561"/>
                  </a:lnTo>
                  <a:lnTo>
                    <a:pt x="370" y="1551"/>
                  </a:lnTo>
                  <a:lnTo>
                    <a:pt x="330" y="1517"/>
                  </a:lnTo>
                  <a:lnTo>
                    <a:pt x="276" y="1456"/>
                  </a:lnTo>
                  <a:lnTo>
                    <a:pt x="210" y="1364"/>
                  </a:lnTo>
                  <a:lnTo>
                    <a:pt x="148" y="1231"/>
                  </a:lnTo>
                  <a:lnTo>
                    <a:pt x="98" y="1058"/>
                  </a:lnTo>
                  <a:lnTo>
                    <a:pt x="65" y="840"/>
                  </a:lnTo>
                  <a:lnTo>
                    <a:pt x="58" y="568"/>
                  </a:lnTo>
                  <a:lnTo>
                    <a:pt x="61" y="551"/>
                  </a:lnTo>
                  <a:lnTo>
                    <a:pt x="72" y="503"/>
                  </a:lnTo>
                  <a:lnTo>
                    <a:pt x="98" y="432"/>
                  </a:lnTo>
                  <a:lnTo>
                    <a:pt x="134" y="347"/>
                  </a:lnTo>
                  <a:lnTo>
                    <a:pt x="185" y="255"/>
                  </a:lnTo>
                  <a:lnTo>
                    <a:pt x="250" y="160"/>
                  </a:lnTo>
                  <a:lnTo>
                    <a:pt x="337" y="75"/>
                  </a:lnTo>
                  <a:lnTo>
                    <a:pt x="4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553560" y="5873760"/>
              <a:ext cx="394200" cy="369360"/>
            </a:xfrm>
            <a:custGeom>
              <a:avLst/>
              <a:gdLst/>
              <a:ahLst/>
              <a:rect l="l" t="t" r="r" b="b"/>
              <a:pathLst>
                <a:path w="621" h="582">
                  <a:moveTo>
                    <a:pt x="0" y="38"/>
                  </a:moveTo>
                  <a:lnTo>
                    <a:pt x="11" y="48"/>
                  </a:lnTo>
                  <a:lnTo>
                    <a:pt x="33" y="79"/>
                  </a:lnTo>
                  <a:lnTo>
                    <a:pt x="65" y="126"/>
                  </a:lnTo>
                  <a:lnTo>
                    <a:pt x="105" y="184"/>
                  </a:lnTo>
                  <a:lnTo>
                    <a:pt x="142" y="252"/>
                  </a:lnTo>
                  <a:lnTo>
                    <a:pt x="174" y="324"/>
                  </a:lnTo>
                  <a:lnTo>
                    <a:pt x="196" y="395"/>
                  </a:lnTo>
                  <a:lnTo>
                    <a:pt x="200" y="463"/>
                  </a:lnTo>
                  <a:lnTo>
                    <a:pt x="200" y="582"/>
                  </a:lnTo>
                  <a:lnTo>
                    <a:pt x="454" y="541"/>
                  </a:lnTo>
                  <a:lnTo>
                    <a:pt x="451" y="528"/>
                  </a:lnTo>
                  <a:lnTo>
                    <a:pt x="443" y="483"/>
                  </a:lnTo>
                  <a:lnTo>
                    <a:pt x="440" y="422"/>
                  </a:lnTo>
                  <a:lnTo>
                    <a:pt x="443" y="344"/>
                  </a:lnTo>
                  <a:lnTo>
                    <a:pt x="458" y="259"/>
                  </a:lnTo>
                  <a:lnTo>
                    <a:pt x="491" y="167"/>
                  </a:lnTo>
                  <a:lnTo>
                    <a:pt x="541" y="79"/>
                  </a:lnTo>
                  <a:lnTo>
                    <a:pt x="621" y="0"/>
                  </a:lnTo>
                  <a:lnTo>
                    <a:pt x="614" y="4"/>
                  </a:lnTo>
                  <a:lnTo>
                    <a:pt x="589" y="17"/>
                  </a:lnTo>
                  <a:lnTo>
                    <a:pt x="556" y="38"/>
                  </a:lnTo>
                  <a:lnTo>
                    <a:pt x="516" y="62"/>
                  </a:lnTo>
                  <a:lnTo>
                    <a:pt x="476" y="96"/>
                  </a:lnTo>
                  <a:lnTo>
                    <a:pt x="443" y="133"/>
                  </a:lnTo>
                  <a:lnTo>
                    <a:pt x="418" y="177"/>
                  </a:lnTo>
                  <a:lnTo>
                    <a:pt x="411" y="225"/>
                  </a:lnTo>
                  <a:lnTo>
                    <a:pt x="381" y="504"/>
                  </a:lnTo>
                  <a:lnTo>
                    <a:pt x="269" y="514"/>
                  </a:lnTo>
                  <a:lnTo>
                    <a:pt x="269" y="500"/>
                  </a:lnTo>
                  <a:lnTo>
                    <a:pt x="265" y="463"/>
                  </a:lnTo>
                  <a:lnTo>
                    <a:pt x="254" y="405"/>
                  </a:lnTo>
                  <a:lnTo>
                    <a:pt x="236" y="337"/>
                  </a:lnTo>
                  <a:lnTo>
                    <a:pt x="203" y="259"/>
                  </a:lnTo>
                  <a:lnTo>
                    <a:pt x="156" y="181"/>
                  </a:lnTo>
                  <a:lnTo>
                    <a:pt x="87" y="106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956240" y="5560920"/>
              <a:ext cx="295200" cy="403560"/>
            </a:xfrm>
            <a:custGeom>
              <a:avLst/>
              <a:gdLst/>
              <a:ahLst/>
              <a:rect l="l" t="t" r="r" b="b"/>
              <a:pathLst>
                <a:path w="465" h="636">
                  <a:moveTo>
                    <a:pt x="66" y="0"/>
                  </a:moveTo>
                  <a:lnTo>
                    <a:pt x="51" y="599"/>
                  </a:lnTo>
                  <a:lnTo>
                    <a:pt x="193" y="599"/>
                  </a:lnTo>
                  <a:lnTo>
                    <a:pt x="193" y="575"/>
                  </a:lnTo>
                  <a:lnTo>
                    <a:pt x="189" y="510"/>
                  </a:lnTo>
                  <a:lnTo>
                    <a:pt x="193" y="422"/>
                  </a:lnTo>
                  <a:lnTo>
                    <a:pt x="200" y="320"/>
                  </a:lnTo>
                  <a:lnTo>
                    <a:pt x="222" y="221"/>
                  </a:lnTo>
                  <a:lnTo>
                    <a:pt x="255" y="140"/>
                  </a:lnTo>
                  <a:lnTo>
                    <a:pt x="306" y="89"/>
                  </a:lnTo>
                  <a:lnTo>
                    <a:pt x="378" y="82"/>
                  </a:lnTo>
                  <a:lnTo>
                    <a:pt x="440" y="95"/>
                  </a:lnTo>
                  <a:lnTo>
                    <a:pt x="465" y="102"/>
                  </a:lnTo>
                  <a:lnTo>
                    <a:pt x="462" y="106"/>
                  </a:lnTo>
                  <a:lnTo>
                    <a:pt x="440" y="102"/>
                  </a:lnTo>
                  <a:lnTo>
                    <a:pt x="407" y="95"/>
                  </a:lnTo>
                  <a:lnTo>
                    <a:pt x="375" y="89"/>
                  </a:lnTo>
                  <a:lnTo>
                    <a:pt x="346" y="85"/>
                  </a:lnTo>
                  <a:lnTo>
                    <a:pt x="335" y="82"/>
                  </a:lnTo>
                  <a:lnTo>
                    <a:pt x="327" y="92"/>
                  </a:lnTo>
                  <a:lnTo>
                    <a:pt x="313" y="119"/>
                  </a:lnTo>
                  <a:lnTo>
                    <a:pt x="291" y="163"/>
                  </a:lnTo>
                  <a:lnTo>
                    <a:pt x="269" y="221"/>
                  </a:lnTo>
                  <a:lnTo>
                    <a:pt x="247" y="300"/>
                  </a:lnTo>
                  <a:lnTo>
                    <a:pt x="233" y="388"/>
                  </a:lnTo>
                  <a:lnTo>
                    <a:pt x="229" y="493"/>
                  </a:lnTo>
                  <a:lnTo>
                    <a:pt x="237" y="612"/>
                  </a:lnTo>
                  <a:lnTo>
                    <a:pt x="51" y="636"/>
                  </a:lnTo>
                  <a:lnTo>
                    <a:pt x="48" y="619"/>
                  </a:lnTo>
                  <a:lnTo>
                    <a:pt x="33" y="568"/>
                  </a:lnTo>
                  <a:lnTo>
                    <a:pt x="18" y="493"/>
                  </a:lnTo>
                  <a:lnTo>
                    <a:pt x="4" y="405"/>
                  </a:lnTo>
                  <a:lnTo>
                    <a:pt x="0" y="303"/>
                  </a:lnTo>
                  <a:lnTo>
                    <a:pt x="4" y="194"/>
                  </a:lnTo>
                  <a:lnTo>
                    <a:pt x="26" y="92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673960" y="5228280"/>
              <a:ext cx="180000" cy="174960"/>
            </a:xfrm>
            <a:custGeom>
              <a:avLst/>
              <a:gdLst/>
              <a:ahLst/>
              <a:rect l="l" t="t" r="r" b="b"/>
              <a:pathLst>
                <a:path w="284" h="276">
                  <a:moveTo>
                    <a:pt x="240" y="0"/>
                  </a:moveTo>
                  <a:lnTo>
                    <a:pt x="226" y="239"/>
                  </a:lnTo>
                  <a:lnTo>
                    <a:pt x="128" y="239"/>
                  </a:lnTo>
                  <a:lnTo>
                    <a:pt x="128" y="232"/>
                  </a:lnTo>
                  <a:lnTo>
                    <a:pt x="124" y="218"/>
                  </a:lnTo>
                  <a:lnTo>
                    <a:pt x="120" y="198"/>
                  </a:lnTo>
                  <a:lnTo>
                    <a:pt x="113" y="174"/>
                  </a:lnTo>
                  <a:lnTo>
                    <a:pt x="95" y="147"/>
                  </a:lnTo>
                  <a:lnTo>
                    <a:pt x="73" y="119"/>
                  </a:lnTo>
                  <a:lnTo>
                    <a:pt x="44" y="96"/>
                  </a:lnTo>
                  <a:lnTo>
                    <a:pt x="0" y="79"/>
                  </a:lnTo>
                  <a:lnTo>
                    <a:pt x="4" y="82"/>
                  </a:lnTo>
                  <a:lnTo>
                    <a:pt x="19" y="96"/>
                  </a:lnTo>
                  <a:lnTo>
                    <a:pt x="37" y="113"/>
                  </a:lnTo>
                  <a:lnTo>
                    <a:pt x="59" y="136"/>
                  </a:lnTo>
                  <a:lnTo>
                    <a:pt x="77" y="167"/>
                  </a:lnTo>
                  <a:lnTo>
                    <a:pt x="95" y="201"/>
                  </a:lnTo>
                  <a:lnTo>
                    <a:pt x="109" y="239"/>
                  </a:lnTo>
                  <a:lnTo>
                    <a:pt x="113" y="276"/>
                  </a:lnTo>
                  <a:lnTo>
                    <a:pt x="255" y="276"/>
                  </a:lnTo>
                  <a:lnTo>
                    <a:pt x="266" y="239"/>
                  </a:lnTo>
                  <a:lnTo>
                    <a:pt x="284" y="150"/>
                  </a:lnTo>
                  <a:lnTo>
                    <a:pt x="284" y="55"/>
                  </a:lnTo>
                  <a:lnTo>
                    <a:pt x="2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118240" y="5762160"/>
              <a:ext cx="1506960" cy="291240"/>
            </a:xfrm>
            <a:custGeom>
              <a:avLst/>
              <a:gdLst/>
              <a:ahLst/>
              <a:rect l="l" t="t" r="r" b="b"/>
              <a:pathLst>
                <a:path w="2373" h="459">
                  <a:moveTo>
                    <a:pt x="0" y="10"/>
                  </a:moveTo>
                  <a:lnTo>
                    <a:pt x="7" y="10"/>
                  </a:lnTo>
                  <a:lnTo>
                    <a:pt x="25" y="13"/>
                  </a:lnTo>
                  <a:lnTo>
                    <a:pt x="58" y="20"/>
                  </a:lnTo>
                  <a:lnTo>
                    <a:pt x="98" y="27"/>
                  </a:lnTo>
                  <a:lnTo>
                    <a:pt x="152" y="34"/>
                  </a:lnTo>
                  <a:lnTo>
                    <a:pt x="214" y="44"/>
                  </a:lnTo>
                  <a:lnTo>
                    <a:pt x="287" y="54"/>
                  </a:lnTo>
                  <a:lnTo>
                    <a:pt x="363" y="68"/>
                  </a:lnTo>
                  <a:lnTo>
                    <a:pt x="450" y="81"/>
                  </a:lnTo>
                  <a:lnTo>
                    <a:pt x="541" y="95"/>
                  </a:lnTo>
                  <a:lnTo>
                    <a:pt x="636" y="112"/>
                  </a:lnTo>
                  <a:lnTo>
                    <a:pt x="737" y="125"/>
                  </a:lnTo>
                  <a:lnTo>
                    <a:pt x="843" y="142"/>
                  </a:lnTo>
                  <a:lnTo>
                    <a:pt x="948" y="163"/>
                  </a:lnTo>
                  <a:lnTo>
                    <a:pt x="1057" y="180"/>
                  </a:lnTo>
                  <a:lnTo>
                    <a:pt x="1166" y="197"/>
                  </a:lnTo>
                  <a:lnTo>
                    <a:pt x="1279" y="217"/>
                  </a:lnTo>
                  <a:lnTo>
                    <a:pt x="1388" y="238"/>
                  </a:lnTo>
                  <a:lnTo>
                    <a:pt x="1493" y="255"/>
                  </a:lnTo>
                  <a:lnTo>
                    <a:pt x="1599" y="275"/>
                  </a:lnTo>
                  <a:lnTo>
                    <a:pt x="1700" y="292"/>
                  </a:lnTo>
                  <a:lnTo>
                    <a:pt x="1798" y="312"/>
                  </a:lnTo>
                  <a:lnTo>
                    <a:pt x="1893" y="329"/>
                  </a:lnTo>
                  <a:lnTo>
                    <a:pt x="1980" y="350"/>
                  </a:lnTo>
                  <a:lnTo>
                    <a:pt x="2060" y="367"/>
                  </a:lnTo>
                  <a:lnTo>
                    <a:pt x="2136" y="380"/>
                  </a:lnTo>
                  <a:lnTo>
                    <a:pt x="2198" y="397"/>
                  </a:lnTo>
                  <a:lnTo>
                    <a:pt x="2256" y="411"/>
                  </a:lnTo>
                  <a:lnTo>
                    <a:pt x="2304" y="425"/>
                  </a:lnTo>
                  <a:lnTo>
                    <a:pt x="2336" y="438"/>
                  </a:lnTo>
                  <a:lnTo>
                    <a:pt x="2362" y="448"/>
                  </a:lnTo>
                  <a:lnTo>
                    <a:pt x="2373" y="459"/>
                  </a:lnTo>
                  <a:lnTo>
                    <a:pt x="2365" y="459"/>
                  </a:lnTo>
                  <a:lnTo>
                    <a:pt x="2347" y="452"/>
                  </a:lnTo>
                  <a:lnTo>
                    <a:pt x="2314" y="445"/>
                  </a:lnTo>
                  <a:lnTo>
                    <a:pt x="2271" y="435"/>
                  </a:lnTo>
                  <a:lnTo>
                    <a:pt x="2220" y="425"/>
                  </a:lnTo>
                  <a:lnTo>
                    <a:pt x="2158" y="408"/>
                  </a:lnTo>
                  <a:lnTo>
                    <a:pt x="2086" y="394"/>
                  </a:lnTo>
                  <a:lnTo>
                    <a:pt x="2009" y="374"/>
                  </a:lnTo>
                  <a:lnTo>
                    <a:pt x="1922" y="357"/>
                  </a:lnTo>
                  <a:lnTo>
                    <a:pt x="1831" y="336"/>
                  </a:lnTo>
                  <a:lnTo>
                    <a:pt x="1733" y="312"/>
                  </a:lnTo>
                  <a:lnTo>
                    <a:pt x="1631" y="292"/>
                  </a:lnTo>
                  <a:lnTo>
                    <a:pt x="1526" y="268"/>
                  </a:lnTo>
                  <a:lnTo>
                    <a:pt x="1421" y="244"/>
                  </a:lnTo>
                  <a:lnTo>
                    <a:pt x="1312" y="221"/>
                  </a:lnTo>
                  <a:lnTo>
                    <a:pt x="1202" y="197"/>
                  </a:lnTo>
                  <a:lnTo>
                    <a:pt x="1090" y="176"/>
                  </a:lnTo>
                  <a:lnTo>
                    <a:pt x="981" y="153"/>
                  </a:lnTo>
                  <a:lnTo>
                    <a:pt x="872" y="132"/>
                  </a:lnTo>
                  <a:lnTo>
                    <a:pt x="766" y="108"/>
                  </a:lnTo>
                  <a:lnTo>
                    <a:pt x="665" y="91"/>
                  </a:lnTo>
                  <a:lnTo>
                    <a:pt x="567" y="71"/>
                  </a:lnTo>
                  <a:lnTo>
                    <a:pt x="476" y="54"/>
                  </a:lnTo>
                  <a:lnTo>
                    <a:pt x="389" y="40"/>
                  </a:lnTo>
                  <a:lnTo>
                    <a:pt x="305" y="27"/>
                  </a:lnTo>
                  <a:lnTo>
                    <a:pt x="232" y="17"/>
                  </a:lnTo>
                  <a:lnTo>
                    <a:pt x="170" y="6"/>
                  </a:lnTo>
                  <a:lnTo>
                    <a:pt x="112" y="3"/>
                  </a:lnTo>
                  <a:lnTo>
                    <a:pt x="69" y="0"/>
                  </a:lnTo>
                  <a:lnTo>
                    <a:pt x="32" y="0"/>
                  </a:lnTo>
                  <a:lnTo>
                    <a:pt x="11" y="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858120" y="5168160"/>
              <a:ext cx="1974960" cy="898200"/>
            </a:xfrm>
            <a:custGeom>
              <a:avLst/>
              <a:gdLst/>
              <a:ahLst/>
              <a:rect l="l" t="t" r="r" b="b"/>
              <a:pathLst>
                <a:path w="3110" h="1415">
                  <a:moveTo>
                    <a:pt x="0" y="1408"/>
                  </a:moveTo>
                  <a:lnTo>
                    <a:pt x="3110" y="0"/>
                  </a:lnTo>
                  <a:lnTo>
                    <a:pt x="3103" y="4"/>
                  </a:lnTo>
                  <a:lnTo>
                    <a:pt x="3077" y="17"/>
                  </a:lnTo>
                  <a:lnTo>
                    <a:pt x="3038" y="38"/>
                  </a:lnTo>
                  <a:lnTo>
                    <a:pt x="2983" y="65"/>
                  </a:lnTo>
                  <a:lnTo>
                    <a:pt x="2918" y="102"/>
                  </a:lnTo>
                  <a:lnTo>
                    <a:pt x="2838" y="143"/>
                  </a:lnTo>
                  <a:lnTo>
                    <a:pt x="2747" y="187"/>
                  </a:lnTo>
                  <a:lnTo>
                    <a:pt x="2649" y="238"/>
                  </a:lnTo>
                  <a:lnTo>
                    <a:pt x="2540" y="296"/>
                  </a:lnTo>
                  <a:lnTo>
                    <a:pt x="2423" y="354"/>
                  </a:lnTo>
                  <a:lnTo>
                    <a:pt x="2300" y="419"/>
                  </a:lnTo>
                  <a:lnTo>
                    <a:pt x="2169" y="483"/>
                  </a:lnTo>
                  <a:lnTo>
                    <a:pt x="2035" y="551"/>
                  </a:lnTo>
                  <a:lnTo>
                    <a:pt x="1900" y="619"/>
                  </a:lnTo>
                  <a:lnTo>
                    <a:pt x="1758" y="687"/>
                  </a:lnTo>
                  <a:lnTo>
                    <a:pt x="1617" y="755"/>
                  </a:lnTo>
                  <a:lnTo>
                    <a:pt x="1475" y="827"/>
                  </a:lnTo>
                  <a:lnTo>
                    <a:pt x="1333" y="895"/>
                  </a:lnTo>
                  <a:lnTo>
                    <a:pt x="1195" y="959"/>
                  </a:lnTo>
                  <a:lnTo>
                    <a:pt x="1057" y="1024"/>
                  </a:lnTo>
                  <a:lnTo>
                    <a:pt x="923" y="1085"/>
                  </a:lnTo>
                  <a:lnTo>
                    <a:pt x="795" y="1143"/>
                  </a:lnTo>
                  <a:lnTo>
                    <a:pt x="672" y="1197"/>
                  </a:lnTo>
                  <a:lnTo>
                    <a:pt x="556" y="1248"/>
                  </a:lnTo>
                  <a:lnTo>
                    <a:pt x="447" y="1293"/>
                  </a:lnTo>
                  <a:lnTo>
                    <a:pt x="348" y="1330"/>
                  </a:lnTo>
                  <a:lnTo>
                    <a:pt x="261" y="1364"/>
                  </a:lnTo>
                  <a:lnTo>
                    <a:pt x="181" y="1388"/>
                  </a:lnTo>
                  <a:lnTo>
                    <a:pt x="116" y="1405"/>
                  </a:lnTo>
                  <a:lnTo>
                    <a:pt x="61" y="1415"/>
                  </a:lnTo>
                  <a:lnTo>
                    <a:pt x="25" y="1415"/>
                  </a:lnTo>
                  <a:lnTo>
                    <a:pt x="0" y="1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60280" y="3796560"/>
              <a:ext cx="535320" cy="194760"/>
            </a:xfrm>
            <a:custGeom>
              <a:avLst/>
              <a:gdLst/>
              <a:ahLst/>
              <a:rect l="l" t="t" r="r" b="b"/>
              <a:pathLst>
                <a:path w="843" h="307">
                  <a:moveTo>
                    <a:pt x="516" y="0"/>
                  </a:moveTo>
                  <a:lnTo>
                    <a:pt x="0" y="143"/>
                  </a:lnTo>
                  <a:lnTo>
                    <a:pt x="843" y="307"/>
                  </a:lnTo>
                  <a:lnTo>
                    <a:pt x="836" y="303"/>
                  </a:lnTo>
                  <a:lnTo>
                    <a:pt x="810" y="300"/>
                  </a:lnTo>
                  <a:lnTo>
                    <a:pt x="774" y="293"/>
                  </a:lnTo>
                  <a:lnTo>
                    <a:pt x="730" y="279"/>
                  </a:lnTo>
                  <a:lnTo>
                    <a:pt x="680" y="266"/>
                  </a:lnTo>
                  <a:lnTo>
                    <a:pt x="625" y="249"/>
                  </a:lnTo>
                  <a:lnTo>
                    <a:pt x="567" y="232"/>
                  </a:lnTo>
                  <a:lnTo>
                    <a:pt x="516" y="211"/>
                  </a:lnTo>
                  <a:lnTo>
                    <a:pt x="465" y="188"/>
                  </a:lnTo>
                  <a:lnTo>
                    <a:pt x="425" y="164"/>
                  </a:lnTo>
                  <a:lnTo>
                    <a:pt x="396" y="140"/>
                  </a:lnTo>
                  <a:lnTo>
                    <a:pt x="382" y="113"/>
                  </a:lnTo>
                  <a:lnTo>
                    <a:pt x="382" y="85"/>
                  </a:lnTo>
                  <a:lnTo>
                    <a:pt x="403" y="58"/>
                  </a:lnTo>
                  <a:lnTo>
                    <a:pt x="447" y="28"/>
                  </a:lnTo>
                  <a:lnTo>
                    <a:pt x="516" y="0"/>
                  </a:lnTo>
                  <a:close/>
                </a:path>
              </a:pathLst>
            </a:custGeom>
            <a:solidFill>
              <a:srgbClr val="515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711160" y="3498840"/>
              <a:ext cx="1010160" cy="319320"/>
            </a:xfrm>
            <a:custGeom>
              <a:avLst/>
              <a:gdLst/>
              <a:ahLst/>
              <a:rect l="l" t="t" r="r" b="b"/>
              <a:pathLst>
                <a:path w="1591" h="503">
                  <a:moveTo>
                    <a:pt x="1137" y="0"/>
                  </a:moveTo>
                  <a:lnTo>
                    <a:pt x="0" y="163"/>
                  </a:lnTo>
                  <a:lnTo>
                    <a:pt x="1591" y="503"/>
                  </a:lnTo>
                  <a:lnTo>
                    <a:pt x="1573" y="500"/>
                  </a:lnTo>
                  <a:lnTo>
                    <a:pt x="1519" y="490"/>
                  </a:lnTo>
                  <a:lnTo>
                    <a:pt x="1439" y="469"/>
                  </a:lnTo>
                  <a:lnTo>
                    <a:pt x="1340" y="449"/>
                  </a:lnTo>
                  <a:lnTo>
                    <a:pt x="1228" y="418"/>
                  </a:lnTo>
                  <a:lnTo>
                    <a:pt x="1112" y="388"/>
                  </a:lnTo>
                  <a:lnTo>
                    <a:pt x="995" y="350"/>
                  </a:lnTo>
                  <a:lnTo>
                    <a:pt x="886" y="313"/>
                  </a:lnTo>
                  <a:lnTo>
                    <a:pt x="792" y="272"/>
                  </a:lnTo>
                  <a:lnTo>
                    <a:pt x="719" y="231"/>
                  </a:lnTo>
                  <a:lnTo>
                    <a:pt x="675" y="191"/>
                  </a:lnTo>
                  <a:lnTo>
                    <a:pt x="668" y="146"/>
                  </a:lnTo>
                  <a:lnTo>
                    <a:pt x="705" y="106"/>
                  </a:lnTo>
                  <a:lnTo>
                    <a:pt x="792" y="68"/>
                  </a:lnTo>
                  <a:lnTo>
                    <a:pt x="933" y="34"/>
                  </a:lnTo>
                  <a:lnTo>
                    <a:pt x="1137" y="0"/>
                  </a:lnTo>
                  <a:close/>
                </a:path>
              </a:pathLst>
            </a:custGeom>
            <a:solidFill>
              <a:srgbClr val="515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62080" y="3602160"/>
              <a:ext cx="505440" cy="201240"/>
            </a:xfrm>
            <a:custGeom>
              <a:avLst/>
              <a:gdLst/>
              <a:ahLst/>
              <a:rect l="l" t="t" r="r" b="b"/>
              <a:pathLst>
                <a:path w="796" h="317">
                  <a:moveTo>
                    <a:pt x="796" y="0"/>
                  </a:moveTo>
                  <a:lnTo>
                    <a:pt x="0" y="177"/>
                  </a:lnTo>
                  <a:lnTo>
                    <a:pt x="582" y="317"/>
                  </a:lnTo>
                  <a:lnTo>
                    <a:pt x="571" y="303"/>
                  </a:lnTo>
                  <a:lnTo>
                    <a:pt x="542" y="269"/>
                  </a:lnTo>
                  <a:lnTo>
                    <a:pt x="509" y="221"/>
                  </a:lnTo>
                  <a:lnTo>
                    <a:pt x="491" y="167"/>
                  </a:lnTo>
                  <a:lnTo>
                    <a:pt x="495" y="113"/>
                  </a:lnTo>
                  <a:lnTo>
                    <a:pt x="538" y="58"/>
                  </a:lnTo>
                  <a:lnTo>
                    <a:pt x="636" y="21"/>
                  </a:lnTo>
                  <a:lnTo>
                    <a:pt x="796" y="0"/>
                  </a:lnTo>
                  <a:close/>
                </a:path>
              </a:pathLst>
            </a:custGeom>
            <a:solidFill>
              <a:srgbClr val="515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22680" y="3401640"/>
              <a:ext cx="1056600" cy="319680"/>
            </a:xfrm>
            <a:custGeom>
              <a:avLst/>
              <a:gdLst/>
              <a:ahLst/>
              <a:rect l="l" t="t" r="r" b="b"/>
              <a:pathLst>
                <a:path w="1664" h="504">
                  <a:moveTo>
                    <a:pt x="665" y="0"/>
                  </a:moveTo>
                  <a:lnTo>
                    <a:pt x="0" y="164"/>
                  </a:lnTo>
                  <a:lnTo>
                    <a:pt x="1664" y="504"/>
                  </a:lnTo>
                  <a:lnTo>
                    <a:pt x="1657" y="500"/>
                  </a:lnTo>
                  <a:lnTo>
                    <a:pt x="1639" y="490"/>
                  </a:lnTo>
                  <a:lnTo>
                    <a:pt x="1610" y="477"/>
                  </a:lnTo>
                  <a:lnTo>
                    <a:pt x="1570" y="460"/>
                  </a:lnTo>
                  <a:lnTo>
                    <a:pt x="1526" y="436"/>
                  </a:lnTo>
                  <a:lnTo>
                    <a:pt x="1472" y="412"/>
                  </a:lnTo>
                  <a:lnTo>
                    <a:pt x="1413" y="385"/>
                  </a:lnTo>
                  <a:lnTo>
                    <a:pt x="1348" y="358"/>
                  </a:lnTo>
                  <a:lnTo>
                    <a:pt x="1283" y="330"/>
                  </a:lnTo>
                  <a:lnTo>
                    <a:pt x="1217" y="303"/>
                  </a:lnTo>
                  <a:lnTo>
                    <a:pt x="1148" y="279"/>
                  </a:lnTo>
                  <a:lnTo>
                    <a:pt x="1083" y="255"/>
                  </a:lnTo>
                  <a:lnTo>
                    <a:pt x="1017" y="238"/>
                  </a:lnTo>
                  <a:lnTo>
                    <a:pt x="959" y="225"/>
                  </a:lnTo>
                  <a:lnTo>
                    <a:pt x="901" y="215"/>
                  </a:lnTo>
                  <a:lnTo>
                    <a:pt x="854" y="211"/>
                  </a:lnTo>
                  <a:lnTo>
                    <a:pt x="763" y="208"/>
                  </a:lnTo>
                  <a:lnTo>
                    <a:pt x="676" y="194"/>
                  </a:lnTo>
                  <a:lnTo>
                    <a:pt x="599" y="174"/>
                  </a:lnTo>
                  <a:lnTo>
                    <a:pt x="541" y="147"/>
                  </a:lnTo>
                  <a:lnTo>
                    <a:pt x="512" y="113"/>
                  </a:lnTo>
                  <a:lnTo>
                    <a:pt x="519" y="79"/>
                  </a:lnTo>
                  <a:lnTo>
                    <a:pt x="567" y="41"/>
                  </a:lnTo>
                  <a:lnTo>
                    <a:pt x="665" y="0"/>
                  </a:lnTo>
                  <a:close/>
                </a:path>
              </a:pathLst>
            </a:custGeom>
            <a:solidFill>
              <a:srgbClr val="515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47480" y="3265920"/>
              <a:ext cx="543960" cy="172440"/>
            </a:xfrm>
            <a:custGeom>
              <a:avLst/>
              <a:gdLst/>
              <a:ahLst/>
              <a:rect l="l" t="t" r="r" b="b"/>
              <a:pathLst>
                <a:path w="857" h="272">
                  <a:moveTo>
                    <a:pt x="0" y="85"/>
                  </a:moveTo>
                  <a:lnTo>
                    <a:pt x="290" y="0"/>
                  </a:lnTo>
                  <a:lnTo>
                    <a:pt x="857" y="272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515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704840" y="3432240"/>
              <a:ext cx="408240" cy="118440"/>
            </a:xfrm>
            <a:custGeom>
              <a:avLst/>
              <a:gdLst/>
              <a:ahLst/>
              <a:rect l="l" t="t" r="r" b="b"/>
              <a:pathLst>
                <a:path w="643" h="187">
                  <a:moveTo>
                    <a:pt x="0" y="34"/>
                  </a:moveTo>
                  <a:lnTo>
                    <a:pt x="251" y="0"/>
                  </a:lnTo>
                  <a:lnTo>
                    <a:pt x="643" y="187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515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11040" y="3749760"/>
              <a:ext cx="1677960" cy="390240"/>
            </a:xfrm>
            <a:custGeom>
              <a:avLst/>
              <a:gdLst/>
              <a:ahLst/>
              <a:rect l="l" t="t" r="r" b="b"/>
              <a:pathLst>
                <a:path w="2642" h="615">
                  <a:moveTo>
                    <a:pt x="0" y="0"/>
                  </a:moveTo>
                  <a:lnTo>
                    <a:pt x="2642" y="459"/>
                  </a:lnTo>
                  <a:lnTo>
                    <a:pt x="2642" y="615"/>
                  </a:lnTo>
                  <a:lnTo>
                    <a:pt x="2547" y="527"/>
                  </a:lnTo>
                  <a:lnTo>
                    <a:pt x="2540" y="527"/>
                  </a:lnTo>
                  <a:lnTo>
                    <a:pt x="2518" y="520"/>
                  </a:lnTo>
                  <a:lnTo>
                    <a:pt x="2485" y="517"/>
                  </a:lnTo>
                  <a:lnTo>
                    <a:pt x="2438" y="506"/>
                  </a:lnTo>
                  <a:lnTo>
                    <a:pt x="2380" y="496"/>
                  </a:lnTo>
                  <a:lnTo>
                    <a:pt x="2311" y="483"/>
                  </a:lnTo>
                  <a:lnTo>
                    <a:pt x="2235" y="469"/>
                  </a:lnTo>
                  <a:lnTo>
                    <a:pt x="2147" y="452"/>
                  </a:lnTo>
                  <a:lnTo>
                    <a:pt x="2057" y="435"/>
                  </a:lnTo>
                  <a:lnTo>
                    <a:pt x="1955" y="415"/>
                  </a:lnTo>
                  <a:lnTo>
                    <a:pt x="1849" y="394"/>
                  </a:lnTo>
                  <a:lnTo>
                    <a:pt x="1740" y="374"/>
                  </a:lnTo>
                  <a:lnTo>
                    <a:pt x="1628" y="350"/>
                  </a:lnTo>
                  <a:lnTo>
                    <a:pt x="1511" y="330"/>
                  </a:lnTo>
                  <a:lnTo>
                    <a:pt x="1392" y="306"/>
                  </a:lnTo>
                  <a:lnTo>
                    <a:pt x="1275" y="282"/>
                  </a:lnTo>
                  <a:lnTo>
                    <a:pt x="1155" y="258"/>
                  </a:lnTo>
                  <a:lnTo>
                    <a:pt x="1035" y="234"/>
                  </a:lnTo>
                  <a:lnTo>
                    <a:pt x="919" y="210"/>
                  </a:lnTo>
                  <a:lnTo>
                    <a:pt x="806" y="190"/>
                  </a:lnTo>
                  <a:lnTo>
                    <a:pt x="697" y="166"/>
                  </a:lnTo>
                  <a:lnTo>
                    <a:pt x="592" y="146"/>
                  </a:lnTo>
                  <a:lnTo>
                    <a:pt x="490" y="122"/>
                  </a:lnTo>
                  <a:lnTo>
                    <a:pt x="400" y="105"/>
                  </a:lnTo>
                  <a:lnTo>
                    <a:pt x="312" y="85"/>
                  </a:lnTo>
                  <a:lnTo>
                    <a:pt x="236" y="68"/>
                  </a:lnTo>
                  <a:lnTo>
                    <a:pt x="167" y="51"/>
                  </a:lnTo>
                  <a:lnTo>
                    <a:pt x="109" y="37"/>
                  </a:lnTo>
                  <a:lnTo>
                    <a:pt x="62" y="23"/>
                  </a:lnTo>
                  <a:lnTo>
                    <a:pt x="29" y="13"/>
                  </a:lnTo>
                  <a:lnTo>
                    <a:pt x="7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52680" y="3250440"/>
              <a:ext cx="1557720" cy="265320"/>
            </a:xfrm>
            <a:custGeom>
              <a:avLst/>
              <a:gdLst/>
              <a:ahLst/>
              <a:rect l="l" t="t" r="r" b="b"/>
              <a:pathLst>
                <a:path w="2453" h="418">
                  <a:moveTo>
                    <a:pt x="2453" y="415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8" y="3"/>
                  </a:lnTo>
                  <a:lnTo>
                    <a:pt x="40" y="10"/>
                  </a:lnTo>
                  <a:lnTo>
                    <a:pt x="69" y="20"/>
                  </a:lnTo>
                  <a:lnTo>
                    <a:pt x="105" y="31"/>
                  </a:lnTo>
                  <a:lnTo>
                    <a:pt x="149" y="41"/>
                  </a:lnTo>
                  <a:lnTo>
                    <a:pt x="200" y="54"/>
                  </a:lnTo>
                  <a:lnTo>
                    <a:pt x="258" y="71"/>
                  </a:lnTo>
                  <a:lnTo>
                    <a:pt x="320" y="85"/>
                  </a:lnTo>
                  <a:lnTo>
                    <a:pt x="389" y="105"/>
                  </a:lnTo>
                  <a:lnTo>
                    <a:pt x="461" y="122"/>
                  </a:lnTo>
                  <a:lnTo>
                    <a:pt x="541" y="143"/>
                  </a:lnTo>
                  <a:lnTo>
                    <a:pt x="625" y="160"/>
                  </a:lnTo>
                  <a:lnTo>
                    <a:pt x="709" y="180"/>
                  </a:lnTo>
                  <a:lnTo>
                    <a:pt x="799" y="201"/>
                  </a:lnTo>
                  <a:lnTo>
                    <a:pt x="894" y="221"/>
                  </a:lnTo>
                  <a:lnTo>
                    <a:pt x="988" y="241"/>
                  </a:lnTo>
                  <a:lnTo>
                    <a:pt x="1087" y="262"/>
                  </a:lnTo>
                  <a:lnTo>
                    <a:pt x="1185" y="282"/>
                  </a:lnTo>
                  <a:lnTo>
                    <a:pt x="1286" y="299"/>
                  </a:lnTo>
                  <a:lnTo>
                    <a:pt x="1388" y="320"/>
                  </a:lnTo>
                  <a:lnTo>
                    <a:pt x="1490" y="337"/>
                  </a:lnTo>
                  <a:lnTo>
                    <a:pt x="1592" y="350"/>
                  </a:lnTo>
                  <a:lnTo>
                    <a:pt x="1693" y="367"/>
                  </a:lnTo>
                  <a:lnTo>
                    <a:pt x="1795" y="377"/>
                  </a:lnTo>
                  <a:lnTo>
                    <a:pt x="1897" y="391"/>
                  </a:lnTo>
                  <a:lnTo>
                    <a:pt x="1995" y="401"/>
                  </a:lnTo>
                  <a:lnTo>
                    <a:pt x="2093" y="408"/>
                  </a:lnTo>
                  <a:lnTo>
                    <a:pt x="2188" y="415"/>
                  </a:lnTo>
                  <a:lnTo>
                    <a:pt x="2278" y="415"/>
                  </a:lnTo>
                  <a:lnTo>
                    <a:pt x="2369" y="418"/>
                  </a:lnTo>
                  <a:lnTo>
                    <a:pt x="2453" y="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22560" y="3276720"/>
              <a:ext cx="2035440" cy="401040"/>
            </a:xfrm>
            <a:custGeom>
              <a:avLst/>
              <a:gdLst/>
              <a:ahLst/>
              <a:rect l="l" t="t" r="r" b="b"/>
              <a:pathLst>
                <a:path w="3205" h="632">
                  <a:moveTo>
                    <a:pt x="3205" y="0"/>
                  </a:moveTo>
                  <a:lnTo>
                    <a:pt x="0" y="632"/>
                  </a:lnTo>
                  <a:lnTo>
                    <a:pt x="7" y="632"/>
                  </a:lnTo>
                  <a:lnTo>
                    <a:pt x="25" y="629"/>
                  </a:lnTo>
                  <a:lnTo>
                    <a:pt x="58" y="626"/>
                  </a:lnTo>
                  <a:lnTo>
                    <a:pt x="102" y="622"/>
                  </a:lnTo>
                  <a:lnTo>
                    <a:pt x="156" y="615"/>
                  </a:lnTo>
                  <a:lnTo>
                    <a:pt x="222" y="609"/>
                  </a:lnTo>
                  <a:lnTo>
                    <a:pt x="298" y="598"/>
                  </a:lnTo>
                  <a:lnTo>
                    <a:pt x="382" y="588"/>
                  </a:lnTo>
                  <a:lnTo>
                    <a:pt x="472" y="578"/>
                  </a:lnTo>
                  <a:lnTo>
                    <a:pt x="574" y="564"/>
                  </a:lnTo>
                  <a:lnTo>
                    <a:pt x="679" y="551"/>
                  </a:lnTo>
                  <a:lnTo>
                    <a:pt x="792" y="534"/>
                  </a:lnTo>
                  <a:lnTo>
                    <a:pt x="908" y="517"/>
                  </a:lnTo>
                  <a:lnTo>
                    <a:pt x="1028" y="500"/>
                  </a:lnTo>
                  <a:lnTo>
                    <a:pt x="1156" y="483"/>
                  </a:lnTo>
                  <a:lnTo>
                    <a:pt x="1286" y="462"/>
                  </a:lnTo>
                  <a:lnTo>
                    <a:pt x="1417" y="442"/>
                  </a:lnTo>
                  <a:lnTo>
                    <a:pt x="1548" y="418"/>
                  </a:lnTo>
                  <a:lnTo>
                    <a:pt x="1682" y="394"/>
                  </a:lnTo>
                  <a:lnTo>
                    <a:pt x="1821" y="370"/>
                  </a:lnTo>
                  <a:lnTo>
                    <a:pt x="1955" y="343"/>
                  </a:lnTo>
                  <a:lnTo>
                    <a:pt x="2086" y="319"/>
                  </a:lnTo>
                  <a:lnTo>
                    <a:pt x="2217" y="292"/>
                  </a:lnTo>
                  <a:lnTo>
                    <a:pt x="2347" y="262"/>
                  </a:lnTo>
                  <a:lnTo>
                    <a:pt x="2475" y="231"/>
                  </a:lnTo>
                  <a:lnTo>
                    <a:pt x="2595" y="200"/>
                  </a:lnTo>
                  <a:lnTo>
                    <a:pt x="2711" y="170"/>
                  </a:lnTo>
                  <a:lnTo>
                    <a:pt x="2823" y="139"/>
                  </a:lnTo>
                  <a:lnTo>
                    <a:pt x="2929" y="105"/>
                  </a:lnTo>
                  <a:lnTo>
                    <a:pt x="3031" y="71"/>
                  </a:lnTo>
                  <a:lnTo>
                    <a:pt x="3121" y="37"/>
                  </a:lnTo>
                  <a:lnTo>
                    <a:pt x="32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646360" y="3609360"/>
              <a:ext cx="1541160" cy="321120"/>
            </a:xfrm>
            <a:custGeom>
              <a:avLst/>
              <a:gdLst/>
              <a:ahLst/>
              <a:rect l="l" t="t" r="r" b="b"/>
              <a:pathLst>
                <a:path w="2427" h="506">
                  <a:moveTo>
                    <a:pt x="0" y="0"/>
                  </a:moveTo>
                  <a:lnTo>
                    <a:pt x="7" y="0"/>
                  </a:lnTo>
                  <a:lnTo>
                    <a:pt x="22" y="3"/>
                  </a:lnTo>
                  <a:lnTo>
                    <a:pt x="51" y="10"/>
                  </a:lnTo>
                  <a:lnTo>
                    <a:pt x="91" y="17"/>
                  </a:lnTo>
                  <a:lnTo>
                    <a:pt x="138" y="27"/>
                  </a:lnTo>
                  <a:lnTo>
                    <a:pt x="192" y="40"/>
                  </a:lnTo>
                  <a:lnTo>
                    <a:pt x="258" y="51"/>
                  </a:lnTo>
                  <a:lnTo>
                    <a:pt x="327" y="68"/>
                  </a:lnTo>
                  <a:lnTo>
                    <a:pt x="407" y="81"/>
                  </a:lnTo>
                  <a:lnTo>
                    <a:pt x="490" y="98"/>
                  </a:lnTo>
                  <a:lnTo>
                    <a:pt x="578" y="119"/>
                  </a:lnTo>
                  <a:lnTo>
                    <a:pt x="672" y="136"/>
                  </a:lnTo>
                  <a:lnTo>
                    <a:pt x="770" y="156"/>
                  </a:lnTo>
                  <a:lnTo>
                    <a:pt x="868" y="176"/>
                  </a:lnTo>
                  <a:lnTo>
                    <a:pt x="970" y="197"/>
                  </a:lnTo>
                  <a:lnTo>
                    <a:pt x="1075" y="217"/>
                  </a:lnTo>
                  <a:lnTo>
                    <a:pt x="1177" y="241"/>
                  </a:lnTo>
                  <a:lnTo>
                    <a:pt x="1283" y="261"/>
                  </a:lnTo>
                  <a:lnTo>
                    <a:pt x="1388" y="282"/>
                  </a:lnTo>
                  <a:lnTo>
                    <a:pt x="1490" y="306"/>
                  </a:lnTo>
                  <a:lnTo>
                    <a:pt x="1591" y="326"/>
                  </a:lnTo>
                  <a:lnTo>
                    <a:pt x="1690" y="346"/>
                  </a:lnTo>
                  <a:lnTo>
                    <a:pt x="1784" y="367"/>
                  </a:lnTo>
                  <a:lnTo>
                    <a:pt x="1875" y="384"/>
                  </a:lnTo>
                  <a:lnTo>
                    <a:pt x="1962" y="404"/>
                  </a:lnTo>
                  <a:lnTo>
                    <a:pt x="2042" y="421"/>
                  </a:lnTo>
                  <a:lnTo>
                    <a:pt x="2115" y="438"/>
                  </a:lnTo>
                  <a:lnTo>
                    <a:pt x="2184" y="452"/>
                  </a:lnTo>
                  <a:lnTo>
                    <a:pt x="2242" y="466"/>
                  </a:lnTo>
                  <a:lnTo>
                    <a:pt x="2293" y="479"/>
                  </a:lnTo>
                  <a:lnTo>
                    <a:pt x="2336" y="489"/>
                  </a:lnTo>
                  <a:lnTo>
                    <a:pt x="2369" y="496"/>
                  </a:lnTo>
                  <a:lnTo>
                    <a:pt x="2413" y="506"/>
                  </a:lnTo>
                  <a:lnTo>
                    <a:pt x="2427" y="506"/>
                  </a:lnTo>
                  <a:lnTo>
                    <a:pt x="2424" y="500"/>
                  </a:lnTo>
                  <a:lnTo>
                    <a:pt x="2420" y="496"/>
                  </a:lnTo>
                  <a:lnTo>
                    <a:pt x="2413" y="496"/>
                  </a:lnTo>
                  <a:lnTo>
                    <a:pt x="2391" y="493"/>
                  </a:lnTo>
                  <a:lnTo>
                    <a:pt x="2358" y="486"/>
                  </a:lnTo>
                  <a:lnTo>
                    <a:pt x="2315" y="479"/>
                  </a:lnTo>
                  <a:lnTo>
                    <a:pt x="2260" y="472"/>
                  </a:lnTo>
                  <a:lnTo>
                    <a:pt x="2195" y="462"/>
                  </a:lnTo>
                  <a:lnTo>
                    <a:pt x="2122" y="452"/>
                  </a:lnTo>
                  <a:lnTo>
                    <a:pt x="2042" y="438"/>
                  </a:lnTo>
                  <a:lnTo>
                    <a:pt x="1951" y="425"/>
                  </a:lnTo>
                  <a:lnTo>
                    <a:pt x="1857" y="411"/>
                  </a:lnTo>
                  <a:lnTo>
                    <a:pt x="1755" y="394"/>
                  </a:lnTo>
                  <a:lnTo>
                    <a:pt x="1650" y="377"/>
                  </a:lnTo>
                  <a:lnTo>
                    <a:pt x="1544" y="360"/>
                  </a:lnTo>
                  <a:lnTo>
                    <a:pt x="1432" y="340"/>
                  </a:lnTo>
                  <a:lnTo>
                    <a:pt x="1319" y="323"/>
                  </a:lnTo>
                  <a:lnTo>
                    <a:pt x="1206" y="302"/>
                  </a:lnTo>
                  <a:lnTo>
                    <a:pt x="1094" y="282"/>
                  </a:lnTo>
                  <a:lnTo>
                    <a:pt x="981" y="261"/>
                  </a:lnTo>
                  <a:lnTo>
                    <a:pt x="868" y="241"/>
                  </a:lnTo>
                  <a:lnTo>
                    <a:pt x="759" y="221"/>
                  </a:lnTo>
                  <a:lnTo>
                    <a:pt x="658" y="200"/>
                  </a:lnTo>
                  <a:lnTo>
                    <a:pt x="556" y="176"/>
                  </a:lnTo>
                  <a:lnTo>
                    <a:pt x="461" y="156"/>
                  </a:lnTo>
                  <a:lnTo>
                    <a:pt x="374" y="139"/>
                  </a:lnTo>
                  <a:lnTo>
                    <a:pt x="291" y="119"/>
                  </a:lnTo>
                  <a:lnTo>
                    <a:pt x="218" y="98"/>
                  </a:lnTo>
                  <a:lnTo>
                    <a:pt x="156" y="81"/>
                  </a:lnTo>
                  <a:lnTo>
                    <a:pt x="102" y="61"/>
                  </a:lnTo>
                  <a:lnTo>
                    <a:pt x="58" y="44"/>
                  </a:lnTo>
                  <a:lnTo>
                    <a:pt x="25" y="30"/>
                  </a:lnTo>
                  <a:lnTo>
                    <a:pt x="7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934440" y="3336840"/>
              <a:ext cx="1538640" cy="317160"/>
            </a:xfrm>
            <a:custGeom>
              <a:avLst/>
              <a:gdLst/>
              <a:ahLst/>
              <a:rect l="l" t="t" r="r" b="b"/>
              <a:pathLst>
                <a:path w="2423" h="500">
                  <a:moveTo>
                    <a:pt x="0" y="0"/>
                  </a:moveTo>
                  <a:lnTo>
                    <a:pt x="7" y="0"/>
                  </a:lnTo>
                  <a:lnTo>
                    <a:pt x="25" y="3"/>
                  </a:lnTo>
                  <a:lnTo>
                    <a:pt x="50" y="10"/>
                  </a:lnTo>
                  <a:lnTo>
                    <a:pt x="90" y="17"/>
                  </a:lnTo>
                  <a:lnTo>
                    <a:pt x="138" y="24"/>
                  </a:lnTo>
                  <a:lnTo>
                    <a:pt x="196" y="34"/>
                  </a:lnTo>
                  <a:lnTo>
                    <a:pt x="261" y="44"/>
                  </a:lnTo>
                  <a:lnTo>
                    <a:pt x="334" y="58"/>
                  </a:lnTo>
                  <a:lnTo>
                    <a:pt x="410" y="71"/>
                  </a:lnTo>
                  <a:lnTo>
                    <a:pt x="497" y="85"/>
                  </a:lnTo>
                  <a:lnTo>
                    <a:pt x="585" y="102"/>
                  </a:lnTo>
                  <a:lnTo>
                    <a:pt x="679" y="119"/>
                  </a:lnTo>
                  <a:lnTo>
                    <a:pt x="777" y="136"/>
                  </a:lnTo>
                  <a:lnTo>
                    <a:pt x="879" y="156"/>
                  </a:lnTo>
                  <a:lnTo>
                    <a:pt x="981" y="173"/>
                  </a:lnTo>
                  <a:lnTo>
                    <a:pt x="1086" y="194"/>
                  </a:lnTo>
                  <a:lnTo>
                    <a:pt x="1191" y="214"/>
                  </a:lnTo>
                  <a:lnTo>
                    <a:pt x="1297" y="235"/>
                  </a:lnTo>
                  <a:lnTo>
                    <a:pt x="1402" y="255"/>
                  </a:lnTo>
                  <a:lnTo>
                    <a:pt x="1504" y="275"/>
                  </a:lnTo>
                  <a:lnTo>
                    <a:pt x="1606" y="296"/>
                  </a:lnTo>
                  <a:lnTo>
                    <a:pt x="1704" y="316"/>
                  </a:lnTo>
                  <a:lnTo>
                    <a:pt x="1798" y="337"/>
                  </a:lnTo>
                  <a:lnTo>
                    <a:pt x="1889" y="357"/>
                  </a:lnTo>
                  <a:lnTo>
                    <a:pt x="1976" y="374"/>
                  </a:lnTo>
                  <a:lnTo>
                    <a:pt x="2056" y="395"/>
                  </a:lnTo>
                  <a:lnTo>
                    <a:pt x="2129" y="412"/>
                  </a:lnTo>
                  <a:lnTo>
                    <a:pt x="2194" y="429"/>
                  </a:lnTo>
                  <a:lnTo>
                    <a:pt x="2253" y="446"/>
                  </a:lnTo>
                  <a:lnTo>
                    <a:pt x="2303" y="463"/>
                  </a:lnTo>
                  <a:lnTo>
                    <a:pt x="2343" y="476"/>
                  </a:lnTo>
                  <a:lnTo>
                    <a:pt x="2372" y="490"/>
                  </a:lnTo>
                  <a:lnTo>
                    <a:pt x="2394" y="500"/>
                  </a:lnTo>
                  <a:lnTo>
                    <a:pt x="2409" y="497"/>
                  </a:lnTo>
                  <a:lnTo>
                    <a:pt x="2420" y="493"/>
                  </a:lnTo>
                  <a:lnTo>
                    <a:pt x="2423" y="490"/>
                  </a:lnTo>
                  <a:lnTo>
                    <a:pt x="2416" y="490"/>
                  </a:lnTo>
                  <a:lnTo>
                    <a:pt x="2398" y="486"/>
                  </a:lnTo>
                  <a:lnTo>
                    <a:pt x="2369" y="480"/>
                  </a:lnTo>
                  <a:lnTo>
                    <a:pt x="2325" y="473"/>
                  </a:lnTo>
                  <a:lnTo>
                    <a:pt x="2274" y="466"/>
                  </a:lnTo>
                  <a:lnTo>
                    <a:pt x="2213" y="456"/>
                  </a:lnTo>
                  <a:lnTo>
                    <a:pt x="2143" y="446"/>
                  </a:lnTo>
                  <a:lnTo>
                    <a:pt x="2067" y="432"/>
                  </a:lnTo>
                  <a:lnTo>
                    <a:pt x="1984" y="418"/>
                  </a:lnTo>
                  <a:lnTo>
                    <a:pt x="1896" y="405"/>
                  </a:lnTo>
                  <a:lnTo>
                    <a:pt x="1798" y="388"/>
                  </a:lnTo>
                  <a:lnTo>
                    <a:pt x="1700" y="371"/>
                  </a:lnTo>
                  <a:lnTo>
                    <a:pt x="1598" y="354"/>
                  </a:lnTo>
                  <a:lnTo>
                    <a:pt x="1493" y="333"/>
                  </a:lnTo>
                  <a:lnTo>
                    <a:pt x="1384" y="316"/>
                  </a:lnTo>
                  <a:lnTo>
                    <a:pt x="1275" y="296"/>
                  </a:lnTo>
                  <a:lnTo>
                    <a:pt x="1166" y="275"/>
                  </a:lnTo>
                  <a:lnTo>
                    <a:pt x="1053" y="255"/>
                  </a:lnTo>
                  <a:lnTo>
                    <a:pt x="948" y="235"/>
                  </a:lnTo>
                  <a:lnTo>
                    <a:pt x="839" y="214"/>
                  </a:lnTo>
                  <a:lnTo>
                    <a:pt x="737" y="194"/>
                  </a:lnTo>
                  <a:lnTo>
                    <a:pt x="635" y="173"/>
                  </a:lnTo>
                  <a:lnTo>
                    <a:pt x="541" y="153"/>
                  </a:lnTo>
                  <a:lnTo>
                    <a:pt x="450" y="133"/>
                  </a:lnTo>
                  <a:lnTo>
                    <a:pt x="363" y="116"/>
                  </a:lnTo>
                  <a:lnTo>
                    <a:pt x="287" y="95"/>
                  </a:lnTo>
                  <a:lnTo>
                    <a:pt x="214" y="78"/>
                  </a:lnTo>
                  <a:lnTo>
                    <a:pt x="152" y="61"/>
                  </a:lnTo>
                  <a:lnTo>
                    <a:pt x="98" y="44"/>
                  </a:lnTo>
                  <a:lnTo>
                    <a:pt x="54" y="27"/>
                  </a:lnTo>
                  <a:lnTo>
                    <a:pt x="21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33320" y="3455640"/>
              <a:ext cx="1534320" cy="312840"/>
            </a:xfrm>
            <a:custGeom>
              <a:avLst/>
              <a:gdLst/>
              <a:ahLst/>
              <a:rect l="l" t="t" r="r" b="b"/>
              <a:pathLst>
                <a:path w="2416" h="493">
                  <a:moveTo>
                    <a:pt x="0" y="0"/>
                  </a:moveTo>
                  <a:lnTo>
                    <a:pt x="7" y="0"/>
                  </a:lnTo>
                  <a:lnTo>
                    <a:pt x="25" y="3"/>
                  </a:lnTo>
                  <a:lnTo>
                    <a:pt x="51" y="10"/>
                  </a:lnTo>
                  <a:lnTo>
                    <a:pt x="91" y="17"/>
                  </a:lnTo>
                  <a:lnTo>
                    <a:pt x="138" y="24"/>
                  </a:lnTo>
                  <a:lnTo>
                    <a:pt x="196" y="34"/>
                  </a:lnTo>
                  <a:lnTo>
                    <a:pt x="262" y="44"/>
                  </a:lnTo>
                  <a:lnTo>
                    <a:pt x="331" y="58"/>
                  </a:lnTo>
                  <a:lnTo>
                    <a:pt x="411" y="71"/>
                  </a:lnTo>
                  <a:lnTo>
                    <a:pt x="494" y="85"/>
                  </a:lnTo>
                  <a:lnTo>
                    <a:pt x="585" y="102"/>
                  </a:lnTo>
                  <a:lnTo>
                    <a:pt x="680" y="119"/>
                  </a:lnTo>
                  <a:lnTo>
                    <a:pt x="778" y="136"/>
                  </a:lnTo>
                  <a:lnTo>
                    <a:pt x="876" y="153"/>
                  </a:lnTo>
                  <a:lnTo>
                    <a:pt x="977" y="174"/>
                  </a:lnTo>
                  <a:lnTo>
                    <a:pt x="1083" y="194"/>
                  </a:lnTo>
                  <a:lnTo>
                    <a:pt x="1188" y="214"/>
                  </a:lnTo>
                  <a:lnTo>
                    <a:pt x="1294" y="235"/>
                  </a:lnTo>
                  <a:lnTo>
                    <a:pt x="1399" y="255"/>
                  </a:lnTo>
                  <a:lnTo>
                    <a:pt x="1501" y="276"/>
                  </a:lnTo>
                  <a:lnTo>
                    <a:pt x="1603" y="296"/>
                  </a:lnTo>
                  <a:lnTo>
                    <a:pt x="1701" y="316"/>
                  </a:lnTo>
                  <a:lnTo>
                    <a:pt x="1795" y="337"/>
                  </a:lnTo>
                  <a:lnTo>
                    <a:pt x="1882" y="357"/>
                  </a:lnTo>
                  <a:lnTo>
                    <a:pt x="1970" y="374"/>
                  </a:lnTo>
                  <a:lnTo>
                    <a:pt x="2049" y="395"/>
                  </a:lnTo>
                  <a:lnTo>
                    <a:pt x="2122" y="412"/>
                  </a:lnTo>
                  <a:lnTo>
                    <a:pt x="2188" y="432"/>
                  </a:lnTo>
                  <a:lnTo>
                    <a:pt x="2246" y="449"/>
                  </a:lnTo>
                  <a:lnTo>
                    <a:pt x="2297" y="463"/>
                  </a:lnTo>
                  <a:lnTo>
                    <a:pt x="2337" y="480"/>
                  </a:lnTo>
                  <a:lnTo>
                    <a:pt x="2366" y="493"/>
                  </a:lnTo>
                  <a:lnTo>
                    <a:pt x="2416" y="493"/>
                  </a:lnTo>
                  <a:lnTo>
                    <a:pt x="2409" y="493"/>
                  </a:lnTo>
                  <a:lnTo>
                    <a:pt x="2391" y="490"/>
                  </a:lnTo>
                  <a:lnTo>
                    <a:pt x="2358" y="483"/>
                  </a:lnTo>
                  <a:lnTo>
                    <a:pt x="2318" y="476"/>
                  </a:lnTo>
                  <a:lnTo>
                    <a:pt x="2264" y="469"/>
                  </a:lnTo>
                  <a:lnTo>
                    <a:pt x="2206" y="459"/>
                  </a:lnTo>
                  <a:lnTo>
                    <a:pt x="2133" y="449"/>
                  </a:lnTo>
                  <a:lnTo>
                    <a:pt x="2057" y="435"/>
                  </a:lnTo>
                  <a:lnTo>
                    <a:pt x="1973" y="422"/>
                  </a:lnTo>
                  <a:lnTo>
                    <a:pt x="1882" y="408"/>
                  </a:lnTo>
                  <a:lnTo>
                    <a:pt x="1784" y="391"/>
                  </a:lnTo>
                  <a:lnTo>
                    <a:pt x="1686" y="374"/>
                  </a:lnTo>
                  <a:lnTo>
                    <a:pt x="1581" y="357"/>
                  </a:lnTo>
                  <a:lnTo>
                    <a:pt x="1475" y="337"/>
                  </a:lnTo>
                  <a:lnTo>
                    <a:pt x="1366" y="320"/>
                  </a:lnTo>
                  <a:lnTo>
                    <a:pt x="1254" y="299"/>
                  </a:lnTo>
                  <a:lnTo>
                    <a:pt x="1145" y="279"/>
                  </a:lnTo>
                  <a:lnTo>
                    <a:pt x="1036" y="259"/>
                  </a:lnTo>
                  <a:lnTo>
                    <a:pt x="927" y="238"/>
                  </a:lnTo>
                  <a:lnTo>
                    <a:pt x="818" y="218"/>
                  </a:lnTo>
                  <a:lnTo>
                    <a:pt x="716" y="197"/>
                  </a:lnTo>
                  <a:lnTo>
                    <a:pt x="614" y="177"/>
                  </a:lnTo>
                  <a:lnTo>
                    <a:pt x="520" y="157"/>
                  </a:lnTo>
                  <a:lnTo>
                    <a:pt x="429" y="136"/>
                  </a:lnTo>
                  <a:lnTo>
                    <a:pt x="345" y="116"/>
                  </a:lnTo>
                  <a:lnTo>
                    <a:pt x="269" y="99"/>
                  </a:lnTo>
                  <a:lnTo>
                    <a:pt x="200" y="78"/>
                  </a:lnTo>
                  <a:lnTo>
                    <a:pt x="138" y="61"/>
                  </a:lnTo>
                  <a:lnTo>
                    <a:pt x="87" y="44"/>
                  </a:lnTo>
                  <a:lnTo>
                    <a:pt x="47" y="27"/>
                  </a:lnTo>
                  <a:lnTo>
                    <a:pt x="18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91800" y="3774960"/>
              <a:ext cx="505440" cy="96840"/>
            </a:xfrm>
            <a:custGeom>
              <a:avLst/>
              <a:gdLst/>
              <a:ahLst/>
              <a:rect l="l" t="t" r="r" b="b"/>
              <a:pathLst>
                <a:path w="796" h="153">
                  <a:moveTo>
                    <a:pt x="0" y="140"/>
                  </a:moveTo>
                  <a:lnTo>
                    <a:pt x="796" y="0"/>
                  </a:lnTo>
                  <a:lnTo>
                    <a:pt x="792" y="4"/>
                  </a:lnTo>
                  <a:lnTo>
                    <a:pt x="781" y="11"/>
                  </a:lnTo>
                  <a:lnTo>
                    <a:pt x="763" y="21"/>
                  </a:lnTo>
                  <a:lnTo>
                    <a:pt x="737" y="31"/>
                  </a:lnTo>
                  <a:lnTo>
                    <a:pt x="705" y="48"/>
                  </a:lnTo>
                  <a:lnTo>
                    <a:pt x="665" y="65"/>
                  </a:lnTo>
                  <a:lnTo>
                    <a:pt x="621" y="79"/>
                  </a:lnTo>
                  <a:lnTo>
                    <a:pt x="574" y="96"/>
                  </a:lnTo>
                  <a:lnTo>
                    <a:pt x="516" y="113"/>
                  </a:lnTo>
                  <a:lnTo>
                    <a:pt x="458" y="126"/>
                  </a:lnTo>
                  <a:lnTo>
                    <a:pt x="392" y="140"/>
                  </a:lnTo>
                  <a:lnTo>
                    <a:pt x="320" y="147"/>
                  </a:lnTo>
                  <a:lnTo>
                    <a:pt x="247" y="153"/>
                  </a:lnTo>
                  <a:lnTo>
                    <a:pt x="167" y="153"/>
                  </a:lnTo>
                  <a:lnTo>
                    <a:pt x="87" y="15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24200" y="3395520"/>
              <a:ext cx="232920" cy="66600"/>
            </a:xfrm>
            <a:custGeom>
              <a:avLst/>
              <a:gdLst/>
              <a:ahLst/>
              <a:rect l="l" t="t" r="r" b="b"/>
              <a:pathLst>
                <a:path w="367" h="105">
                  <a:moveTo>
                    <a:pt x="353" y="0"/>
                  </a:moveTo>
                  <a:lnTo>
                    <a:pt x="0" y="105"/>
                  </a:lnTo>
                  <a:lnTo>
                    <a:pt x="18" y="105"/>
                  </a:lnTo>
                  <a:lnTo>
                    <a:pt x="69" y="102"/>
                  </a:lnTo>
                  <a:lnTo>
                    <a:pt x="138" y="95"/>
                  </a:lnTo>
                  <a:lnTo>
                    <a:pt x="214" y="81"/>
                  </a:lnTo>
                  <a:lnTo>
                    <a:pt x="287" y="68"/>
                  </a:lnTo>
                  <a:lnTo>
                    <a:pt x="342" y="51"/>
                  </a:lnTo>
                  <a:lnTo>
                    <a:pt x="367" y="27"/>
                  </a:lnTo>
                  <a:lnTo>
                    <a:pt x="3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013840" y="3842280"/>
              <a:ext cx="1506960" cy="2001600"/>
            </a:xfrm>
            <a:custGeom>
              <a:avLst/>
              <a:gdLst/>
              <a:ahLst/>
              <a:rect l="l" t="t" r="r" b="b"/>
              <a:pathLst>
                <a:path w="2373" h="3153">
                  <a:moveTo>
                    <a:pt x="15" y="0"/>
                  </a:moveTo>
                  <a:lnTo>
                    <a:pt x="0" y="2619"/>
                  </a:lnTo>
                  <a:lnTo>
                    <a:pt x="2373" y="3153"/>
                  </a:lnTo>
                  <a:lnTo>
                    <a:pt x="2366" y="3143"/>
                  </a:lnTo>
                  <a:lnTo>
                    <a:pt x="2340" y="3109"/>
                  </a:lnTo>
                  <a:lnTo>
                    <a:pt x="2297" y="3058"/>
                  </a:lnTo>
                  <a:lnTo>
                    <a:pt x="2246" y="2990"/>
                  </a:lnTo>
                  <a:lnTo>
                    <a:pt x="2180" y="2911"/>
                  </a:lnTo>
                  <a:lnTo>
                    <a:pt x="2104" y="2819"/>
                  </a:lnTo>
                  <a:lnTo>
                    <a:pt x="2024" y="2724"/>
                  </a:lnTo>
                  <a:lnTo>
                    <a:pt x="1933" y="2626"/>
                  </a:lnTo>
                  <a:lnTo>
                    <a:pt x="1839" y="2527"/>
                  </a:lnTo>
                  <a:lnTo>
                    <a:pt x="1744" y="2428"/>
                  </a:lnTo>
                  <a:lnTo>
                    <a:pt x="1646" y="2336"/>
                  </a:lnTo>
                  <a:lnTo>
                    <a:pt x="1548" y="2255"/>
                  </a:lnTo>
                  <a:lnTo>
                    <a:pt x="1454" y="2183"/>
                  </a:lnTo>
                  <a:lnTo>
                    <a:pt x="1363" y="2126"/>
                  </a:lnTo>
                  <a:lnTo>
                    <a:pt x="1276" y="2085"/>
                  </a:lnTo>
                  <a:lnTo>
                    <a:pt x="1199" y="2064"/>
                  </a:lnTo>
                  <a:lnTo>
                    <a:pt x="1127" y="2054"/>
                  </a:lnTo>
                  <a:lnTo>
                    <a:pt x="1061" y="2044"/>
                  </a:lnTo>
                  <a:lnTo>
                    <a:pt x="999" y="2030"/>
                  </a:lnTo>
                  <a:lnTo>
                    <a:pt x="945" y="2013"/>
                  </a:lnTo>
                  <a:lnTo>
                    <a:pt x="890" y="1996"/>
                  </a:lnTo>
                  <a:lnTo>
                    <a:pt x="843" y="1979"/>
                  </a:lnTo>
                  <a:lnTo>
                    <a:pt x="803" y="1956"/>
                  </a:lnTo>
                  <a:lnTo>
                    <a:pt x="763" y="1935"/>
                  </a:lnTo>
                  <a:lnTo>
                    <a:pt x="731" y="1911"/>
                  </a:lnTo>
                  <a:lnTo>
                    <a:pt x="705" y="1888"/>
                  </a:lnTo>
                  <a:lnTo>
                    <a:pt x="683" y="1864"/>
                  </a:lnTo>
                  <a:lnTo>
                    <a:pt x="665" y="1837"/>
                  </a:lnTo>
                  <a:lnTo>
                    <a:pt x="651" y="1809"/>
                  </a:lnTo>
                  <a:lnTo>
                    <a:pt x="643" y="1782"/>
                  </a:lnTo>
                  <a:lnTo>
                    <a:pt x="640" y="1751"/>
                  </a:lnTo>
                  <a:lnTo>
                    <a:pt x="643" y="1724"/>
                  </a:lnTo>
                  <a:lnTo>
                    <a:pt x="647" y="1680"/>
                  </a:lnTo>
                  <a:lnTo>
                    <a:pt x="647" y="1612"/>
                  </a:lnTo>
                  <a:lnTo>
                    <a:pt x="643" y="1524"/>
                  </a:lnTo>
                  <a:lnTo>
                    <a:pt x="632" y="1415"/>
                  </a:lnTo>
                  <a:lnTo>
                    <a:pt x="622" y="1292"/>
                  </a:lnTo>
                  <a:lnTo>
                    <a:pt x="600" y="1160"/>
                  </a:lnTo>
                  <a:lnTo>
                    <a:pt x="578" y="1017"/>
                  </a:lnTo>
                  <a:lnTo>
                    <a:pt x="545" y="871"/>
                  </a:lnTo>
                  <a:lnTo>
                    <a:pt x="509" y="724"/>
                  </a:lnTo>
                  <a:lnTo>
                    <a:pt x="462" y="581"/>
                  </a:lnTo>
                  <a:lnTo>
                    <a:pt x="411" y="449"/>
                  </a:lnTo>
                  <a:lnTo>
                    <a:pt x="349" y="323"/>
                  </a:lnTo>
                  <a:lnTo>
                    <a:pt x="280" y="211"/>
                  </a:lnTo>
                  <a:lnTo>
                    <a:pt x="200" y="119"/>
                  </a:lnTo>
                  <a:lnTo>
                    <a:pt x="113" y="4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b7d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74320" y="5526720"/>
              <a:ext cx="1640520" cy="334440"/>
            </a:xfrm>
            <a:custGeom>
              <a:avLst/>
              <a:gdLst/>
              <a:ahLst/>
              <a:rect l="l" t="t" r="r" b="b"/>
              <a:pathLst>
                <a:path w="2583" h="527">
                  <a:moveTo>
                    <a:pt x="0" y="3"/>
                  </a:moveTo>
                  <a:lnTo>
                    <a:pt x="7" y="7"/>
                  </a:lnTo>
                  <a:lnTo>
                    <a:pt x="29" y="10"/>
                  </a:lnTo>
                  <a:lnTo>
                    <a:pt x="65" y="20"/>
                  </a:lnTo>
                  <a:lnTo>
                    <a:pt x="112" y="30"/>
                  </a:lnTo>
                  <a:lnTo>
                    <a:pt x="170" y="47"/>
                  </a:lnTo>
                  <a:lnTo>
                    <a:pt x="239" y="64"/>
                  </a:lnTo>
                  <a:lnTo>
                    <a:pt x="316" y="85"/>
                  </a:lnTo>
                  <a:lnTo>
                    <a:pt x="403" y="105"/>
                  </a:lnTo>
                  <a:lnTo>
                    <a:pt x="497" y="129"/>
                  </a:lnTo>
                  <a:lnTo>
                    <a:pt x="599" y="153"/>
                  </a:lnTo>
                  <a:lnTo>
                    <a:pt x="705" y="180"/>
                  </a:lnTo>
                  <a:lnTo>
                    <a:pt x="817" y="207"/>
                  </a:lnTo>
                  <a:lnTo>
                    <a:pt x="934" y="234"/>
                  </a:lnTo>
                  <a:lnTo>
                    <a:pt x="1050" y="262"/>
                  </a:lnTo>
                  <a:lnTo>
                    <a:pt x="1170" y="289"/>
                  </a:lnTo>
                  <a:lnTo>
                    <a:pt x="1293" y="316"/>
                  </a:lnTo>
                  <a:lnTo>
                    <a:pt x="1413" y="343"/>
                  </a:lnTo>
                  <a:lnTo>
                    <a:pt x="1533" y="371"/>
                  </a:lnTo>
                  <a:lnTo>
                    <a:pt x="1649" y="394"/>
                  </a:lnTo>
                  <a:lnTo>
                    <a:pt x="1766" y="418"/>
                  </a:lnTo>
                  <a:lnTo>
                    <a:pt x="1878" y="439"/>
                  </a:lnTo>
                  <a:lnTo>
                    <a:pt x="1984" y="459"/>
                  </a:lnTo>
                  <a:lnTo>
                    <a:pt x="2085" y="479"/>
                  </a:lnTo>
                  <a:lnTo>
                    <a:pt x="2180" y="493"/>
                  </a:lnTo>
                  <a:lnTo>
                    <a:pt x="2267" y="507"/>
                  </a:lnTo>
                  <a:lnTo>
                    <a:pt x="2343" y="517"/>
                  </a:lnTo>
                  <a:lnTo>
                    <a:pt x="2413" y="524"/>
                  </a:lnTo>
                  <a:lnTo>
                    <a:pt x="2471" y="527"/>
                  </a:lnTo>
                  <a:lnTo>
                    <a:pt x="2518" y="524"/>
                  </a:lnTo>
                  <a:lnTo>
                    <a:pt x="2554" y="520"/>
                  </a:lnTo>
                  <a:lnTo>
                    <a:pt x="2576" y="510"/>
                  </a:lnTo>
                  <a:lnTo>
                    <a:pt x="2583" y="496"/>
                  </a:lnTo>
                  <a:lnTo>
                    <a:pt x="2576" y="496"/>
                  </a:lnTo>
                  <a:lnTo>
                    <a:pt x="2554" y="490"/>
                  </a:lnTo>
                  <a:lnTo>
                    <a:pt x="2518" y="483"/>
                  </a:lnTo>
                  <a:lnTo>
                    <a:pt x="2471" y="473"/>
                  </a:lnTo>
                  <a:lnTo>
                    <a:pt x="2413" y="459"/>
                  </a:lnTo>
                  <a:lnTo>
                    <a:pt x="2343" y="445"/>
                  </a:lnTo>
                  <a:lnTo>
                    <a:pt x="2267" y="428"/>
                  </a:lnTo>
                  <a:lnTo>
                    <a:pt x="2180" y="411"/>
                  </a:lnTo>
                  <a:lnTo>
                    <a:pt x="2085" y="391"/>
                  </a:lnTo>
                  <a:lnTo>
                    <a:pt x="1984" y="371"/>
                  </a:lnTo>
                  <a:lnTo>
                    <a:pt x="1878" y="350"/>
                  </a:lnTo>
                  <a:lnTo>
                    <a:pt x="1766" y="326"/>
                  </a:lnTo>
                  <a:lnTo>
                    <a:pt x="1649" y="303"/>
                  </a:lnTo>
                  <a:lnTo>
                    <a:pt x="1533" y="279"/>
                  </a:lnTo>
                  <a:lnTo>
                    <a:pt x="1413" y="255"/>
                  </a:lnTo>
                  <a:lnTo>
                    <a:pt x="1293" y="228"/>
                  </a:lnTo>
                  <a:lnTo>
                    <a:pt x="1170" y="204"/>
                  </a:lnTo>
                  <a:lnTo>
                    <a:pt x="1050" y="180"/>
                  </a:lnTo>
                  <a:lnTo>
                    <a:pt x="934" y="156"/>
                  </a:lnTo>
                  <a:lnTo>
                    <a:pt x="817" y="136"/>
                  </a:lnTo>
                  <a:lnTo>
                    <a:pt x="705" y="115"/>
                  </a:lnTo>
                  <a:lnTo>
                    <a:pt x="599" y="95"/>
                  </a:lnTo>
                  <a:lnTo>
                    <a:pt x="497" y="75"/>
                  </a:lnTo>
                  <a:lnTo>
                    <a:pt x="403" y="58"/>
                  </a:lnTo>
                  <a:lnTo>
                    <a:pt x="316" y="41"/>
                  </a:lnTo>
                  <a:lnTo>
                    <a:pt x="239" y="27"/>
                  </a:lnTo>
                  <a:lnTo>
                    <a:pt x="170" y="17"/>
                  </a:lnTo>
                  <a:lnTo>
                    <a:pt x="112" y="10"/>
                  </a:lnTo>
                  <a:lnTo>
                    <a:pt x="65" y="3"/>
                  </a:lnTo>
                  <a:lnTo>
                    <a:pt x="29" y="0"/>
                  </a:lnTo>
                  <a:lnTo>
                    <a:pt x="7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979640" y="3889800"/>
              <a:ext cx="66600" cy="1614960"/>
            </a:xfrm>
            <a:custGeom>
              <a:avLst/>
              <a:gdLst/>
              <a:ahLst/>
              <a:rect l="l" t="t" r="r" b="b"/>
              <a:pathLst>
                <a:path w="105" h="2544">
                  <a:moveTo>
                    <a:pt x="54" y="0"/>
                  </a:moveTo>
                  <a:lnTo>
                    <a:pt x="51" y="105"/>
                  </a:lnTo>
                  <a:lnTo>
                    <a:pt x="36" y="391"/>
                  </a:lnTo>
                  <a:lnTo>
                    <a:pt x="21" y="789"/>
                  </a:lnTo>
                  <a:lnTo>
                    <a:pt x="7" y="1251"/>
                  </a:lnTo>
                  <a:lnTo>
                    <a:pt x="0" y="1714"/>
                  </a:lnTo>
                  <a:lnTo>
                    <a:pt x="3" y="2122"/>
                  </a:lnTo>
                  <a:lnTo>
                    <a:pt x="18" y="2418"/>
                  </a:lnTo>
                  <a:lnTo>
                    <a:pt x="54" y="2544"/>
                  </a:lnTo>
                  <a:lnTo>
                    <a:pt x="58" y="2438"/>
                  </a:lnTo>
                  <a:lnTo>
                    <a:pt x="69" y="2156"/>
                  </a:lnTo>
                  <a:lnTo>
                    <a:pt x="83" y="1758"/>
                  </a:lnTo>
                  <a:lnTo>
                    <a:pt x="98" y="1299"/>
                  </a:lnTo>
                  <a:lnTo>
                    <a:pt x="105" y="836"/>
                  </a:lnTo>
                  <a:lnTo>
                    <a:pt x="101" y="428"/>
                  </a:lnTo>
                  <a:lnTo>
                    <a:pt x="87" y="12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09760" y="4584960"/>
              <a:ext cx="145080" cy="267840"/>
            </a:xfrm>
            <a:custGeom>
              <a:avLst/>
              <a:gdLst/>
              <a:ahLst/>
              <a:rect l="l" t="t" r="r" b="b"/>
              <a:pathLst>
                <a:path w="229" h="422">
                  <a:moveTo>
                    <a:pt x="229" y="177"/>
                  </a:moveTo>
                  <a:lnTo>
                    <a:pt x="229" y="150"/>
                  </a:lnTo>
                  <a:lnTo>
                    <a:pt x="221" y="85"/>
                  </a:lnTo>
                  <a:lnTo>
                    <a:pt x="203" y="24"/>
                  </a:lnTo>
                  <a:lnTo>
                    <a:pt x="167" y="0"/>
                  </a:lnTo>
                  <a:lnTo>
                    <a:pt x="156" y="10"/>
                  </a:lnTo>
                  <a:lnTo>
                    <a:pt x="131" y="41"/>
                  </a:lnTo>
                  <a:lnTo>
                    <a:pt x="91" y="85"/>
                  </a:lnTo>
                  <a:lnTo>
                    <a:pt x="54" y="139"/>
                  </a:lnTo>
                  <a:lnTo>
                    <a:pt x="21" y="204"/>
                  </a:lnTo>
                  <a:lnTo>
                    <a:pt x="0" y="272"/>
                  </a:lnTo>
                  <a:lnTo>
                    <a:pt x="0" y="343"/>
                  </a:lnTo>
                  <a:lnTo>
                    <a:pt x="25" y="411"/>
                  </a:lnTo>
                  <a:lnTo>
                    <a:pt x="32" y="418"/>
                  </a:lnTo>
                  <a:lnTo>
                    <a:pt x="51" y="422"/>
                  </a:lnTo>
                  <a:lnTo>
                    <a:pt x="72" y="401"/>
                  </a:lnTo>
                  <a:lnTo>
                    <a:pt x="98" y="333"/>
                  </a:lnTo>
                  <a:lnTo>
                    <a:pt x="112" y="289"/>
                  </a:lnTo>
                  <a:lnTo>
                    <a:pt x="131" y="252"/>
                  </a:lnTo>
                  <a:lnTo>
                    <a:pt x="152" y="224"/>
                  </a:lnTo>
                  <a:lnTo>
                    <a:pt x="174" y="204"/>
                  </a:lnTo>
                  <a:lnTo>
                    <a:pt x="196" y="190"/>
                  </a:lnTo>
                  <a:lnTo>
                    <a:pt x="214" y="184"/>
                  </a:lnTo>
                  <a:lnTo>
                    <a:pt x="225" y="177"/>
                  </a:lnTo>
                  <a:lnTo>
                    <a:pt x="229" y="177"/>
                  </a:lnTo>
                  <a:close/>
                </a:path>
              </a:pathLst>
            </a:custGeom>
            <a:solidFill>
              <a:srgbClr val="515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215960" y="4584960"/>
              <a:ext cx="64800" cy="127440"/>
            </a:xfrm>
            <a:custGeom>
              <a:avLst/>
              <a:gdLst/>
              <a:ahLst/>
              <a:rect l="l" t="t" r="r" b="b"/>
              <a:pathLst>
                <a:path w="102" h="201">
                  <a:moveTo>
                    <a:pt x="0" y="0"/>
                  </a:moveTo>
                  <a:lnTo>
                    <a:pt x="7" y="0"/>
                  </a:lnTo>
                  <a:lnTo>
                    <a:pt x="22" y="3"/>
                  </a:lnTo>
                  <a:lnTo>
                    <a:pt x="47" y="13"/>
                  </a:lnTo>
                  <a:lnTo>
                    <a:pt x="69" y="30"/>
                  </a:lnTo>
                  <a:lnTo>
                    <a:pt x="91" y="54"/>
                  </a:lnTo>
                  <a:lnTo>
                    <a:pt x="102" y="92"/>
                  </a:lnTo>
                  <a:lnTo>
                    <a:pt x="102" y="139"/>
                  </a:lnTo>
                  <a:lnTo>
                    <a:pt x="87" y="201"/>
                  </a:lnTo>
                  <a:lnTo>
                    <a:pt x="80" y="167"/>
                  </a:lnTo>
                  <a:lnTo>
                    <a:pt x="62" y="95"/>
                  </a:lnTo>
                  <a:lnTo>
                    <a:pt x="33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081680" y="4619520"/>
              <a:ext cx="124560" cy="226440"/>
            </a:xfrm>
            <a:custGeom>
              <a:avLst/>
              <a:gdLst/>
              <a:ahLst/>
              <a:rect l="l" t="t" r="r" b="b"/>
              <a:pathLst>
                <a:path w="196" h="357">
                  <a:moveTo>
                    <a:pt x="196" y="0"/>
                  </a:moveTo>
                  <a:lnTo>
                    <a:pt x="182" y="7"/>
                  </a:lnTo>
                  <a:lnTo>
                    <a:pt x="145" y="28"/>
                  </a:lnTo>
                  <a:lnTo>
                    <a:pt x="102" y="58"/>
                  </a:lnTo>
                  <a:lnTo>
                    <a:pt x="55" y="99"/>
                  </a:lnTo>
                  <a:lnTo>
                    <a:pt x="18" y="153"/>
                  </a:lnTo>
                  <a:lnTo>
                    <a:pt x="0" y="211"/>
                  </a:lnTo>
                  <a:lnTo>
                    <a:pt x="15" y="283"/>
                  </a:lnTo>
                  <a:lnTo>
                    <a:pt x="69" y="357"/>
                  </a:lnTo>
                  <a:lnTo>
                    <a:pt x="65" y="347"/>
                  </a:lnTo>
                  <a:lnTo>
                    <a:pt x="58" y="320"/>
                  </a:lnTo>
                  <a:lnTo>
                    <a:pt x="55" y="279"/>
                  </a:lnTo>
                  <a:lnTo>
                    <a:pt x="55" y="228"/>
                  </a:lnTo>
                  <a:lnTo>
                    <a:pt x="62" y="170"/>
                  </a:lnTo>
                  <a:lnTo>
                    <a:pt x="87" y="113"/>
                  </a:lnTo>
                  <a:lnTo>
                    <a:pt x="131" y="55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62680" y="4703760"/>
              <a:ext cx="61920" cy="92520"/>
            </a:xfrm>
            <a:custGeom>
              <a:avLst/>
              <a:gdLst/>
              <a:ahLst/>
              <a:rect l="l" t="t" r="r" b="b"/>
              <a:pathLst>
                <a:path w="98" h="146">
                  <a:moveTo>
                    <a:pt x="98" y="0"/>
                  </a:moveTo>
                  <a:lnTo>
                    <a:pt x="91" y="3"/>
                  </a:lnTo>
                  <a:lnTo>
                    <a:pt x="77" y="7"/>
                  </a:lnTo>
                  <a:lnTo>
                    <a:pt x="58" y="17"/>
                  </a:lnTo>
                  <a:lnTo>
                    <a:pt x="37" y="34"/>
                  </a:lnTo>
                  <a:lnTo>
                    <a:pt x="15" y="54"/>
                  </a:lnTo>
                  <a:lnTo>
                    <a:pt x="4" y="78"/>
                  </a:lnTo>
                  <a:lnTo>
                    <a:pt x="0" y="109"/>
                  </a:lnTo>
                  <a:lnTo>
                    <a:pt x="15" y="146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95840" y="4196520"/>
              <a:ext cx="174960" cy="172440"/>
            </a:xfrm>
            <a:custGeom>
              <a:avLst/>
              <a:gdLst/>
              <a:ahLst/>
              <a:rect l="l" t="t" r="r" b="b"/>
              <a:pathLst>
                <a:path w="276" h="272">
                  <a:moveTo>
                    <a:pt x="0" y="0"/>
                  </a:moveTo>
                  <a:lnTo>
                    <a:pt x="7" y="0"/>
                  </a:lnTo>
                  <a:lnTo>
                    <a:pt x="25" y="0"/>
                  </a:lnTo>
                  <a:lnTo>
                    <a:pt x="54" y="3"/>
                  </a:lnTo>
                  <a:lnTo>
                    <a:pt x="87" y="10"/>
                  </a:lnTo>
                  <a:lnTo>
                    <a:pt x="127" y="20"/>
                  </a:lnTo>
                  <a:lnTo>
                    <a:pt x="163" y="37"/>
                  </a:lnTo>
                  <a:lnTo>
                    <a:pt x="200" y="61"/>
                  </a:lnTo>
                  <a:lnTo>
                    <a:pt x="232" y="91"/>
                  </a:lnTo>
                  <a:lnTo>
                    <a:pt x="243" y="112"/>
                  </a:lnTo>
                  <a:lnTo>
                    <a:pt x="262" y="160"/>
                  </a:lnTo>
                  <a:lnTo>
                    <a:pt x="276" y="217"/>
                  </a:lnTo>
                  <a:lnTo>
                    <a:pt x="276" y="272"/>
                  </a:lnTo>
                  <a:lnTo>
                    <a:pt x="269" y="265"/>
                  </a:lnTo>
                  <a:lnTo>
                    <a:pt x="251" y="245"/>
                  </a:lnTo>
                  <a:lnTo>
                    <a:pt x="225" y="217"/>
                  </a:lnTo>
                  <a:lnTo>
                    <a:pt x="189" y="187"/>
                  </a:lnTo>
                  <a:lnTo>
                    <a:pt x="149" y="160"/>
                  </a:lnTo>
                  <a:lnTo>
                    <a:pt x="105" y="132"/>
                  </a:lnTo>
                  <a:lnTo>
                    <a:pt x="58" y="119"/>
                  </a:lnTo>
                  <a:lnTo>
                    <a:pt x="11" y="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5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74960" y="4172400"/>
              <a:ext cx="36720" cy="123120"/>
            </a:xfrm>
            <a:custGeom>
              <a:avLst/>
              <a:gdLst/>
              <a:ahLst/>
              <a:rect l="l" t="t" r="r" b="b"/>
              <a:pathLst>
                <a:path w="58" h="194">
                  <a:moveTo>
                    <a:pt x="58" y="0"/>
                  </a:moveTo>
                  <a:lnTo>
                    <a:pt x="55" y="4"/>
                  </a:lnTo>
                  <a:lnTo>
                    <a:pt x="40" y="10"/>
                  </a:lnTo>
                  <a:lnTo>
                    <a:pt x="26" y="24"/>
                  </a:lnTo>
                  <a:lnTo>
                    <a:pt x="11" y="44"/>
                  </a:lnTo>
                  <a:lnTo>
                    <a:pt x="0" y="72"/>
                  </a:lnTo>
                  <a:lnTo>
                    <a:pt x="0" y="106"/>
                  </a:lnTo>
                  <a:lnTo>
                    <a:pt x="18" y="147"/>
                  </a:lnTo>
                  <a:lnTo>
                    <a:pt x="51" y="194"/>
                  </a:lnTo>
                  <a:lnTo>
                    <a:pt x="47" y="164"/>
                  </a:lnTo>
                  <a:lnTo>
                    <a:pt x="40" y="95"/>
                  </a:lnTo>
                  <a:lnTo>
                    <a:pt x="40" y="31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630040" y="4198680"/>
              <a:ext cx="154800" cy="170640"/>
            </a:xfrm>
            <a:custGeom>
              <a:avLst/>
              <a:gdLst/>
              <a:ahLst/>
              <a:rect l="l" t="t" r="r" b="b"/>
              <a:pathLst>
                <a:path w="244" h="269">
                  <a:moveTo>
                    <a:pt x="0" y="0"/>
                  </a:moveTo>
                  <a:lnTo>
                    <a:pt x="15" y="0"/>
                  </a:lnTo>
                  <a:lnTo>
                    <a:pt x="51" y="7"/>
                  </a:lnTo>
                  <a:lnTo>
                    <a:pt x="99" y="20"/>
                  </a:lnTo>
                  <a:lnTo>
                    <a:pt x="153" y="44"/>
                  </a:lnTo>
                  <a:lnTo>
                    <a:pt x="200" y="78"/>
                  </a:lnTo>
                  <a:lnTo>
                    <a:pt x="237" y="126"/>
                  </a:lnTo>
                  <a:lnTo>
                    <a:pt x="244" y="187"/>
                  </a:lnTo>
                  <a:lnTo>
                    <a:pt x="222" y="269"/>
                  </a:lnTo>
                  <a:lnTo>
                    <a:pt x="222" y="259"/>
                  </a:lnTo>
                  <a:lnTo>
                    <a:pt x="218" y="235"/>
                  </a:lnTo>
                  <a:lnTo>
                    <a:pt x="211" y="197"/>
                  </a:lnTo>
                  <a:lnTo>
                    <a:pt x="193" y="153"/>
                  </a:lnTo>
                  <a:lnTo>
                    <a:pt x="168" y="109"/>
                  </a:lnTo>
                  <a:lnTo>
                    <a:pt x="128" y="65"/>
                  </a:lnTo>
                  <a:lnTo>
                    <a:pt x="73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642280" y="4276440"/>
              <a:ext cx="75600" cy="62280"/>
            </a:xfrm>
            <a:custGeom>
              <a:avLst/>
              <a:gdLst/>
              <a:ahLst/>
              <a:rect l="l" t="t" r="r" b="b"/>
              <a:pathLst>
                <a:path w="119" h="98">
                  <a:moveTo>
                    <a:pt x="0" y="0"/>
                  </a:moveTo>
                  <a:lnTo>
                    <a:pt x="7" y="0"/>
                  </a:lnTo>
                  <a:lnTo>
                    <a:pt x="21" y="0"/>
                  </a:lnTo>
                  <a:lnTo>
                    <a:pt x="40" y="3"/>
                  </a:lnTo>
                  <a:lnTo>
                    <a:pt x="65" y="10"/>
                  </a:lnTo>
                  <a:lnTo>
                    <a:pt x="87" y="20"/>
                  </a:lnTo>
                  <a:lnTo>
                    <a:pt x="105" y="37"/>
                  </a:lnTo>
                  <a:lnTo>
                    <a:pt x="116" y="64"/>
                  </a:lnTo>
                  <a:lnTo>
                    <a:pt x="119" y="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25040" y="115560"/>
            <a:ext cx="70866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99ff"/>
                </a:solidFill>
                <a:uFillTx/>
                <a:latin typeface="Tahoma"/>
              </a:rPr>
              <a:t>Der Umgang mit mehreren Beziehunge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8736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99ff"/>
                </a:solidFill>
                <a:uFillTx/>
                <a:latin typeface="Tahoma"/>
              </a:rPr>
              <a:t>Welche Menschen kommen zum Glauben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1. Menschen, die eine echte Bekehrung aus der Nähe miterlebt haben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(Verwandte, Freunde, Nachbarn, Arbeitskollegen, Mitschüler, etc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2.  Menschen, für die (manchmal schon lange) gebetet  wur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3. (Junge) Menschen, die nach dem Sinn des Lebens gesucht hab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4. Menschen, die in Lebenskrisen geführt wurd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Verlust naher Angehöriger (Tod, Trennung,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cheidu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schwere Krankhe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- sonstige Krisen (Verlust des Arbeitsplatzes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Zusammenbruch der Firma, Gefängnisstrafe,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ucht, Umzug, Schulden, etc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8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8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8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8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8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8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8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8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8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8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8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800" fill="hold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80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8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8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800" fill="hold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800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8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8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800" fill="hold"/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800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800" fill="hold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800" fill="hold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800" fill="hold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800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800" fill="hold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800" fill="hold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800" fill="hold"/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800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800" fill="hold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800" fill="hold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800" fill="hold"/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800"/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800" fill="hold"/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800" fill="hold"/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800" fill="hold"/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800"/>
                                        <p:tgtEl>
                                          <p:spTgt spid="2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800" fill="hold"/>
                                        <p:tgtEl>
                                          <p:spTgt spid="2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800" fill="hold"/>
                                        <p:tgtEl>
                                          <p:spTgt spid="2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800" fill="hold"/>
                                        <p:tgtEl>
                                          <p:spTgt spid="2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99ff"/>
                </a:solidFill>
                <a:uFillTx/>
                <a:latin typeface="Tahoma"/>
              </a:rPr>
              <a:t>Konkrete Schlussfolgerunge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Ich will für ............................... und für ................................. täglich </a:t>
            </a:r>
            <a:r>
              <a:rPr b="1" lang="en-US" sz="3200" spc="-1" strike="noStrike">
                <a:solidFill>
                  <a:srgbClr val="ff99ff"/>
                </a:solidFill>
                <a:latin typeface="Tahoma"/>
              </a:rPr>
              <a:t>bet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Ich will mich mit ........................... baldmöglichst </a:t>
            </a:r>
            <a:r>
              <a:rPr b="1" lang="en-US" sz="3200" spc="-1" strike="noStrike">
                <a:solidFill>
                  <a:srgbClr val="ff99ff"/>
                </a:solidFill>
                <a:latin typeface="Tahoma"/>
              </a:rPr>
              <a:t>treffen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um mit ihm / ihr     irgend etwas zu unternehm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Ich will mich mit ........................... baldmöglichst </a:t>
            </a:r>
            <a:r>
              <a:rPr b="1" lang="en-US" sz="3200" spc="-1" strike="noStrike">
                <a:solidFill>
                  <a:srgbClr val="ff99ff"/>
                </a:solidFill>
                <a:latin typeface="Tahoma"/>
              </a:rPr>
              <a:t>treffen,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um mit ihm / ihr über das Evangelium zu sprech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1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2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3" dur="8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8" dur="8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9" dur="8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0" dur="8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5" dur="8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6" dur="8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7" dur="8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ff"/>
                </a:solidFill>
                <a:latin typeface="Tahoma"/>
              </a:rPr>
              <a:t>Gibt es eine Gabe der (Persönlichen) Evangelisation?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Tahoma"/>
              </a:rPr>
              <a:t>- </a:t>
            </a:r>
            <a:r>
              <a:rPr b="1" lang="en-US" sz="2400" spc="-1" strike="noStrike" u="sng">
                <a:solidFill>
                  <a:srgbClr val="66ccff"/>
                </a:solidFill>
                <a:uFillTx/>
                <a:latin typeface="Tahoma"/>
              </a:rPr>
              <a:t>jeder Christ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sollte um die Errettung von Menschen be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Tahoma"/>
              </a:rPr>
              <a:t>- </a:t>
            </a:r>
            <a:r>
              <a:rPr b="1" lang="en-US" sz="2400" spc="-1" strike="noStrike" u="sng">
                <a:solidFill>
                  <a:srgbClr val="66ccff"/>
                </a:solidFill>
                <a:uFillTx/>
                <a:latin typeface="Tahoma"/>
              </a:rPr>
              <a:t>jeder Christ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sollte Zeugnis ablegen, wenn er gefragt wir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Tahoma"/>
              </a:rPr>
              <a:t>- </a:t>
            </a:r>
            <a:r>
              <a:rPr b="1" lang="en-US" sz="2400" spc="-1" strike="noStrike" u="sng">
                <a:solidFill>
                  <a:srgbClr val="66ccff"/>
                </a:solidFill>
                <a:uFillTx/>
                <a:latin typeface="Tahoma"/>
              </a:rPr>
              <a:t>jeder Christ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kann evangelistische Bücher, Schriften und Kassetten weitergeb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Tahoma"/>
              </a:rPr>
              <a:t>- </a:t>
            </a:r>
            <a:r>
              <a:rPr b="1" lang="en-US" sz="2400" spc="-1" strike="noStrike" u="sng">
                <a:solidFill>
                  <a:srgbClr val="66ccff"/>
                </a:solidFill>
                <a:uFillTx/>
                <a:latin typeface="Tahoma"/>
              </a:rPr>
              <a:t>jeder Christ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kann zu evangelistischen Veranstaltungen einlad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Tahoma"/>
              </a:rPr>
              <a:t>- </a:t>
            </a:r>
            <a:r>
              <a:rPr b="1" lang="en-US" sz="2400" spc="-1" strike="noStrike" u="sng">
                <a:solidFill>
                  <a:srgbClr val="66ccff"/>
                </a:solidFill>
                <a:uFillTx/>
                <a:latin typeface="Tahoma"/>
              </a:rPr>
              <a:t>jeder Christ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kann versuchen, Menschen mit Christen in Verbindung zu bringen, die evangelistisch begabt si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ccff"/>
                </a:solidFill>
                <a:latin typeface="Tahoma"/>
              </a:rPr>
              <a:t>- </a:t>
            </a:r>
            <a:r>
              <a:rPr b="1" lang="en-US" sz="2400" spc="-1" strike="noStrike" u="sng">
                <a:solidFill>
                  <a:srgbClr val="66ccff"/>
                </a:solidFill>
                <a:uFillTx/>
                <a:latin typeface="Tahoma"/>
              </a:rPr>
              <a:t>jeder Christ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kann durch ein glaubwürdiges Leben auf den Herrn Jesus hinweis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8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189000"/>
            <a:ext cx="75438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66ccff"/>
                </a:solidFill>
                <a:uFillTx/>
                <a:latin typeface="Tahoma"/>
              </a:rPr>
              <a:t>Die Offenbarung Gott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4200" y="1197000"/>
            <a:ext cx="75438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ff"/>
                </a:solidFill>
                <a:uFillTx/>
                <a:latin typeface="Tahoma"/>
              </a:rPr>
              <a:t>A. Die allgemeine Offenbaru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43640"/>
            <a:ext cx="58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. in der Schöpfung (Röm 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2491200"/>
            <a:ext cx="55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. im Gewissen (Röm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00000" y="3067560"/>
            <a:ext cx="68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 in der Geschichte Israels (Röm 9-11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26920" y="385668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ff"/>
                </a:solidFill>
                <a:uFillTx/>
                <a:latin typeface="Tahoma"/>
              </a:rPr>
              <a:t>B. Die besondere Offenbarung Got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66880" y="4555080"/>
            <a:ext cx="56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 in der Bibel (Joh 5,39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78040" y="5083560"/>
            <a:ext cx="61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. in Jesus Christus (Joh 14,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-100080"/>
            <a:ext cx="7543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66ccff"/>
                </a:solidFill>
                <a:uFillTx/>
                <a:latin typeface="Tahoma"/>
              </a:rPr>
              <a:t>Schwimmende Eisscholl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4" name="" descr="photo: state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4105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5058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in Bild für das postmoderne Wahrheitsverständni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jeder hat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ein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Wahrheit (seine Schol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8920" y="-163800"/>
            <a:ext cx="871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99ff"/>
                </a:solidFill>
                <a:uFillTx/>
                <a:latin typeface="Tahoma"/>
              </a:rPr>
              <a:t>Das Wahrheitsverständnis der Aufklärung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7487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66ccff"/>
                </a:solidFill>
                <a:latin typeface="Tahoma"/>
              </a:rPr>
              <a:t>1. Philosophische Wahrhe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sie wird erlangt durch Denke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521440"/>
            <a:ext cx="88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66ccff"/>
                </a:solidFill>
                <a:latin typeface="Tahoma"/>
              </a:rPr>
              <a:t>2. Naturwissenschaftliche Wahrh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sie wird erlangt durch Beobachte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schen und Mess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920" y="425016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66ccff"/>
                </a:solidFill>
                <a:latin typeface="Tahoma"/>
              </a:rPr>
              <a:t>3. Religiöse Wahrh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dazu ist übernatürliche „Offenbarung“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rforderli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1" lang="en-US" sz="3600" spc="-1" strike="noStrike" u="sng">
                <a:solidFill>
                  <a:srgbClr val="ff99ff"/>
                </a:solidFill>
                <a:uFillTx/>
                <a:latin typeface="Tahoma"/>
              </a:rPr>
              <a:t>Die Geschichtsphilosophie Hegels</a:t>
            </a:r>
            <a:br>
              <a:rPr sz="3200"/>
            </a:br>
            <a:r>
              <a:rPr b="1" lang="en-US" sz="3200" spc="-1" strike="noStrike">
                <a:solidFill>
                  <a:srgbClr val="ff99ff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ff99ff"/>
                </a:solidFill>
                <a:latin typeface="Tahoma"/>
              </a:rPr>
              <a:t>Georg Wilhelm Friedrich Hegel (1770-1831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47280" y="2060640"/>
            <a:ext cx="421164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es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 ist wahr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1979640" y="3889800"/>
            <a:ext cx="504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ahoma"/>
              </a:rPr>
              <a:t>Synthese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C ist wah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51640" y="1971000"/>
            <a:ext cx="31683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ccff"/>
                </a:solidFill>
                <a:uFillTx/>
                <a:latin typeface="Tahoma"/>
              </a:rPr>
              <a:t>Antithese</a:t>
            </a:r>
            <a:r>
              <a:rPr b="1" lang="en-US" sz="3200" spc="-1" strike="noStrike">
                <a:solidFill>
                  <a:srgbClr val="66cc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Tahoma"/>
              </a:rPr>
              <a:t>B ist wah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27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66ccff"/>
                </a:solidFill>
                <a:uFillTx/>
                <a:latin typeface="Tahoma"/>
              </a:rPr>
              <a:t>Die Relativitätstheorie von Einstein </a:t>
            </a:r>
            <a:r>
              <a:rPr b="1" lang="en-US" sz="2800" spc="-1" strike="noStrike">
                <a:solidFill>
                  <a:srgbClr val="66ccff"/>
                </a:solidFill>
                <a:latin typeface="Tahoma"/>
              </a:rPr>
              <a:t> (1905) </a:t>
            </a:r>
            <a:br>
              <a:rPr sz="2800"/>
            </a:br>
            <a:r>
              <a:rPr b="1" lang="en-US" sz="2400" spc="-1" strike="noStrike">
                <a:solidFill>
                  <a:srgbClr val="66ccff"/>
                </a:solidFill>
                <a:latin typeface="Tahoma"/>
              </a:rPr>
              <a:t>„</a:t>
            </a:r>
            <a:r>
              <a:rPr b="1" i="1" lang="en-US" sz="2400" spc="-1" strike="noStrike">
                <a:solidFill>
                  <a:srgbClr val="66ccff"/>
                </a:solidFill>
                <a:latin typeface="Tahoma"/>
              </a:rPr>
              <a:t>Über die Elektrodynamik sich bewegender Körper</a:t>
            </a:r>
            <a:r>
              <a:rPr b="1" lang="en-US" sz="2400" spc="-1" strike="noStrike">
                <a:solidFill>
                  <a:srgbClr val="66ccff"/>
                </a:solidFill>
                <a:latin typeface="Tahoma"/>
              </a:rPr>
              <a:t>“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266480"/>
            <a:ext cx="9144000" cy="27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…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so hat Einsteins Relativitätstheorie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obwohl er das selbst nicht wollte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die </a:t>
            </a:r>
            <a:r>
              <a:rPr b="1" i="1" lang="en-US" sz="3200" spc="-1" strike="noStrike">
                <a:solidFill>
                  <a:srgbClr val="ff99ff"/>
                </a:solidFill>
                <a:latin typeface="Tahoma"/>
              </a:rPr>
              <a:t>totale Relativierung aller Wert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ff"/>
                </a:solidFill>
                <a:latin typeface="Tahoma"/>
              </a:rPr>
              <a:t>und der Wahrheit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im 20. Jahrhunde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hervorgerufen …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005360"/>
            <a:ext cx="889308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Wie ein Messer hat uns di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ff"/>
                </a:solidFill>
                <a:latin typeface="Tahoma"/>
              </a:rPr>
              <a:t>Relativitätstheorie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 von unseren Wurze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in den jüdisch-christlichen Glaub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abgeschnitten.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aul Johnson in „</a:t>
            </a: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Die Geschichte der modernen Welt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188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99ff"/>
                </a:solidFill>
                <a:uFillTx/>
                <a:latin typeface="Tahoma"/>
              </a:rPr>
              <a:t>Das Wahrheitsverständnis der Aufklärung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785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. Philosophische Wahrheit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egel: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Relativism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22200" y="2996280"/>
            <a:ext cx="828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. Naturwissenschaftliche Wahrh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instein: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Relativitätstheor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4220280"/>
            <a:ext cx="81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33cccc"/>
                </a:solidFill>
                <a:latin typeface="Tahoma"/>
              </a:rPr>
              <a:t>3. </a:t>
            </a:r>
            <a:r>
              <a:rPr b="1" lang="en-US" sz="3200" spc="-1" strike="noStrike" u="sng">
                <a:solidFill>
                  <a:srgbClr val="33cccc"/>
                </a:solidFill>
                <a:uFillTx/>
                <a:latin typeface="Tahoma"/>
              </a:rPr>
              <a:t>Biblische Wahrheit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4868280"/>
            <a:ext cx="71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) überprüfbar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(verifizierbar)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19000" y="5515920"/>
            <a:ext cx="69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) personal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(Jesus Christus)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0T10:51:50Z</dcterms:created>
  <dc:creator>Computer</dc:creator>
  <dc:description/>
  <dc:language>en-US</dc:language>
  <cp:lastModifiedBy>Wilfried Plock</cp:lastModifiedBy>
  <dcterms:modified xsi:type="dcterms:W3CDTF">2004-06-26T18:44:34Z</dcterms:modified>
  <cp:revision>75</cp:revision>
  <dc:subject/>
  <dc:title>Die Offenbarung Gottes</dc:title>
</cp:coreProperties>
</file>